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06A-E364-4753-A889-E25A5823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50E-59B0-4422-A491-4EAA5DD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F8B-3A16-4F72-ABF1-8E4D663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E8E-86FC-4134-99E2-3B4215F0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9FCA-0C17-47BA-8C91-25688CCD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107-0F0A-460F-98D0-10105D81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A1F0-4FF7-4F20-A2CA-6F70B53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C873-D70D-4EC6-A4AF-1F0783B2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3509-2FCB-463D-BA9A-6F65013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741-04C1-42C3-8E87-77DF5EC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9AAC-E232-477D-BEC1-F5A96E54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D3A-2160-4606-8D73-EE3B69D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6C5-4CDF-4850-9BBD-B6495C8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C125-8884-4D79-BAAB-35972DA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0FE-AC1F-4C05-8721-505774C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FC5-7D0C-48DC-B2E3-551CAF8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0FA-D058-4041-AC32-22C72FA0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48C-AB05-41C5-B010-83950D50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A9F-E99D-4C47-850E-E78F006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12B-0E85-4BE8-BD19-96B149A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65B-E96D-49EB-8433-11048D0A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3B2-0577-4CDB-B412-F91AFEF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D38-D081-43C6-B24F-1385420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856-E4FD-4E0E-BE33-B52FD9D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D5D5-158E-49B4-B68F-A76A2226C6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2F88-BC31-44B9-979F-1C88C42F42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Coordinate Plan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64880"/>
            <a:ext cx="37339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3440" y="165240"/>
            <a:ext cx="2884320" cy="269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3040" y="1682640"/>
            <a:ext cx="728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igin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ordinate Plane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 and y axis –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adrant -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1360" y="1544760"/>
            <a:ext cx="455760" cy="54432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9699" y="4440"/>
                </a:moveTo>
                <a:cubicBezTo>
                  <a:pt x="9587" y="4764"/>
                  <a:pt x="9259" y="5429"/>
                  <a:pt x="9550" y="5755"/>
                </a:cubicBezTo>
                <a:cubicBezTo>
                  <a:pt x="9591" y="5755"/>
                  <a:pt x="9633" y="5755"/>
                  <a:pt x="9674" y="5755"/>
                </a:cubicBezTo>
              </a:path>
              <a:path w="1266" h="1514">
                <a:moveTo>
                  <a:pt x="10294" y="4291"/>
                </a:moveTo>
                <a:cubicBezTo>
                  <a:pt x="10503" y="4670"/>
                  <a:pt x="10840" y="5062"/>
                  <a:pt x="10666" y="5507"/>
                </a:cubicBezTo>
                <a:cubicBezTo>
                  <a:pt x="10535" y="5681"/>
                  <a:pt x="10508" y="5729"/>
                  <a:pt x="10393" y="580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55880" y="1677960"/>
            <a:ext cx="1116000" cy="393840"/>
          </a:xfrm>
          <a:custGeom>
            <a:avLst/>
            <a:gdLst/>
            <a:ahLst/>
            <a:rect l="l" t="t" r="r" b="b"/>
            <a:pathLst>
              <a:path w="3102" h="1093">
                <a:moveTo>
                  <a:pt x="5854" y="5283"/>
                </a:moveTo>
                <a:cubicBezTo>
                  <a:pt x="5854" y="5336"/>
                  <a:pt x="5794" y="5137"/>
                  <a:pt x="5779" y="5110"/>
                </a:cubicBezTo>
                <a:cubicBezTo>
                  <a:pt x="5730" y="5035"/>
                  <a:pt x="5714" y="5010"/>
                  <a:pt x="5655" y="4986"/>
                </a:cubicBezTo>
                <a:cubicBezTo>
                  <a:pt x="5479" y="5150"/>
                  <a:pt x="5283" y="5500"/>
                  <a:pt x="5531" y="5730"/>
                </a:cubicBezTo>
                <a:cubicBezTo>
                  <a:pt x="5647" y="5838"/>
                  <a:pt x="5850" y="5680"/>
                  <a:pt x="5953" y="5631"/>
                </a:cubicBezTo>
              </a:path>
              <a:path w="3102" h="1093">
                <a:moveTo>
                  <a:pt x="6102" y="5333"/>
                </a:moveTo>
                <a:cubicBezTo>
                  <a:pt x="6222" y="5320"/>
                  <a:pt x="6327" y="5308"/>
                  <a:pt x="6449" y="5308"/>
                </a:cubicBezTo>
                <a:cubicBezTo>
                  <a:pt x="6457" y="5308"/>
                  <a:pt x="6466" y="5308"/>
                  <a:pt x="6474" y="5308"/>
                </a:cubicBezTo>
                <a:cubicBezTo>
                  <a:pt x="6427" y="5182"/>
                  <a:pt x="6354" y="5002"/>
                  <a:pt x="6176" y="5110"/>
                </a:cubicBezTo>
                <a:cubicBezTo>
                  <a:pt x="6005" y="5214"/>
                  <a:pt x="5976" y="5612"/>
                  <a:pt x="6201" y="5680"/>
                </a:cubicBezTo>
                <a:cubicBezTo>
                  <a:pt x="6369" y="5652"/>
                  <a:pt x="6433" y="5630"/>
                  <a:pt x="6499" y="5507"/>
                </a:cubicBezTo>
              </a:path>
              <a:path w="3102" h="1093">
                <a:moveTo>
                  <a:pt x="6573" y="5234"/>
                </a:moveTo>
                <a:cubicBezTo>
                  <a:pt x="6579" y="5269"/>
                  <a:pt x="6687" y="5591"/>
                  <a:pt x="6672" y="5606"/>
                </a:cubicBezTo>
                <a:cubicBezTo>
                  <a:pt x="6664" y="5589"/>
                  <a:pt x="6656" y="5573"/>
                  <a:pt x="6648" y="5556"/>
                </a:cubicBezTo>
                <a:cubicBezTo>
                  <a:pt x="6628" y="5396"/>
                  <a:pt x="6616" y="5327"/>
                  <a:pt x="6672" y="5184"/>
                </a:cubicBezTo>
                <a:cubicBezTo>
                  <a:pt x="6922" y="5184"/>
                  <a:pt x="6948" y="5280"/>
                  <a:pt x="6970" y="5531"/>
                </a:cubicBezTo>
                <a:cubicBezTo>
                  <a:pt x="6970" y="5573"/>
                  <a:pt x="6970" y="5581"/>
                  <a:pt x="6970" y="5606"/>
                </a:cubicBezTo>
              </a:path>
              <a:path w="3102" h="1093">
                <a:moveTo>
                  <a:pt x="7069" y="4663"/>
                </a:moveTo>
                <a:cubicBezTo>
                  <a:pt x="7150" y="4960"/>
                  <a:pt x="7223" y="5264"/>
                  <a:pt x="7317" y="5556"/>
                </a:cubicBezTo>
                <a:cubicBezTo>
                  <a:pt x="7337" y="5597"/>
                  <a:pt x="7346" y="5624"/>
                  <a:pt x="7342" y="5581"/>
                </a:cubicBezTo>
              </a:path>
              <a:path w="3102" h="1093">
                <a:moveTo>
                  <a:pt x="7045" y="5184"/>
                </a:moveTo>
                <a:cubicBezTo>
                  <a:pt x="7240" y="5171"/>
                  <a:pt x="7435" y="5170"/>
                  <a:pt x="7615" y="5209"/>
                </a:cubicBezTo>
                <a:cubicBezTo>
                  <a:pt x="7663" y="5219"/>
                  <a:pt x="7637" y="5234"/>
                  <a:pt x="7714" y="5234"/>
                </a:cubicBezTo>
                <a:cubicBezTo>
                  <a:pt x="7772" y="5234"/>
                  <a:pt x="7780" y="5234"/>
                  <a:pt x="7813" y="5234"/>
                </a:cubicBezTo>
                <a:cubicBezTo>
                  <a:pt x="7839" y="5131"/>
                  <a:pt x="7870" y="5017"/>
                  <a:pt x="7714" y="5035"/>
                </a:cubicBezTo>
                <a:cubicBezTo>
                  <a:pt x="7491" y="5061"/>
                  <a:pt x="7541" y="5353"/>
                  <a:pt x="7665" y="5457"/>
                </a:cubicBezTo>
                <a:cubicBezTo>
                  <a:pt x="7924" y="5674"/>
                  <a:pt x="8013" y="5362"/>
                  <a:pt x="8086" y="5184"/>
                </a:cubicBezTo>
              </a:path>
              <a:path w="3102" h="1093">
                <a:moveTo>
                  <a:pt x="8062" y="5085"/>
                </a:moveTo>
                <a:cubicBezTo>
                  <a:pt x="8067" y="5203"/>
                  <a:pt x="8078" y="5315"/>
                  <a:pt x="8086" y="5432"/>
                </a:cubicBezTo>
                <a:cubicBezTo>
                  <a:pt x="8086" y="5276"/>
                  <a:pt x="8020" y="5205"/>
                  <a:pt x="8161" y="5085"/>
                </a:cubicBezTo>
                <a:cubicBezTo>
                  <a:pt x="8273" y="4990"/>
                  <a:pt x="8412" y="4972"/>
                  <a:pt x="8533" y="4911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4920" y="1758960"/>
            <a:ext cx="17928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10071" y="4936"/>
                </a:moveTo>
                <a:cubicBezTo>
                  <a:pt x="9900" y="5116"/>
                  <a:pt x="9883" y="5192"/>
                  <a:pt x="9847" y="5432"/>
                </a:cubicBezTo>
                <a:cubicBezTo>
                  <a:pt x="10067" y="5506"/>
                  <a:pt x="10453" y="5521"/>
                  <a:pt x="10344" y="5135"/>
                </a:cubicBezTo>
                <a:cubicBezTo>
                  <a:pt x="10305" y="4998"/>
                  <a:pt x="10148" y="5009"/>
                  <a:pt x="10096" y="488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4280" y="3000240"/>
            <a:ext cx="411120" cy="349560"/>
          </a:xfrm>
          <a:custGeom>
            <a:avLst/>
            <a:gdLst/>
            <a:ahLst/>
            <a:rect l="l" t="t" r="r" b="b"/>
            <a:pathLst>
              <a:path w="1142" h="969">
                <a:moveTo>
                  <a:pt x="10368" y="8533"/>
                </a:moveTo>
                <a:cubicBezTo>
                  <a:pt x="10368" y="8508"/>
                  <a:pt x="10368" y="8500"/>
                  <a:pt x="10393" y="8508"/>
                </a:cubicBezTo>
                <a:cubicBezTo>
                  <a:pt x="10362" y="8366"/>
                  <a:pt x="10242" y="8297"/>
                  <a:pt x="10096" y="8409"/>
                </a:cubicBezTo>
                <a:cubicBezTo>
                  <a:pt x="9960" y="8566"/>
                  <a:pt x="9920" y="8606"/>
                  <a:pt x="9872" y="8731"/>
                </a:cubicBezTo>
                <a:cubicBezTo>
                  <a:pt x="10125" y="8731"/>
                  <a:pt x="10214" y="8729"/>
                  <a:pt x="10319" y="8483"/>
                </a:cubicBezTo>
                <a:cubicBezTo>
                  <a:pt x="10356" y="8668"/>
                  <a:pt x="10529" y="8763"/>
                  <a:pt x="10517" y="8979"/>
                </a:cubicBezTo>
                <a:cubicBezTo>
                  <a:pt x="10496" y="9355"/>
                  <a:pt x="10055" y="9298"/>
                  <a:pt x="9872" y="9203"/>
                </a:cubicBezTo>
              </a:path>
              <a:path w="1142" h="969">
                <a:moveTo>
                  <a:pt x="10641" y="8558"/>
                </a:moveTo>
                <a:cubicBezTo>
                  <a:pt x="10655" y="8644"/>
                  <a:pt x="10666" y="8697"/>
                  <a:pt x="10666" y="8781"/>
                </a:cubicBezTo>
                <a:cubicBezTo>
                  <a:pt x="10631" y="8652"/>
                  <a:pt x="10562" y="8485"/>
                  <a:pt x="10691" y="8384"/>
                </a:cubicBezTo>
                <a:cubicBezTo>
                  <a:pt x="10812" y="8289"/>
                  <a:pt x="10898" y="8345"/>
                  <a:pt x="11013" y="83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4880" y="2803680"/>
            <a:ext cx="3636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708" y="7789"/>
                </a:moveTo>
                <a:cubicBezTo>
                  <a:pt x="11722" y="8084"/>
                  <a:pt x="11765" y="8365"/>
                  <a:pt x="11807" y="8657"/>
                </a:cubicBezTo>
                <a:cubicBezTo>
                  <a:pt x="11807" y="8665"/>
                  <a:pt x="11807" y="8674"/>
                  <a:pt x="11807" y="868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0960" y="2963880"/>
            <a:ext cx="277920" cy="19836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11088" y="8434"/>
                </a:moveTo>
                <a:cubicBezTo>
                  <a:pt x="11091" y="8510"/>
                  <a:pt x="11075" y="8799"/>
                  <a:pt x="11162" y="8756"/>
                </a:cubicBezTo>
              </a:path>
              <a:path w="770" h="547">
                <a:moveTo>
                  <a:pt x="11088" y="8235"/>
                </a:moveTo>
                <a:cubicBezTo>
                  <a:pt x="11113" y="8235"/>
                  <a:pt x="11137" y="8235"/>
                  <a:pt x="11162" y="8235"/>
                </a:cubicBezTo>
              </a:path>
              <a:path w="770" h="547">
                <a:moveTo>
                  <a:pt x="11162" y="8235"/>
                </a:moveTo>
                <a:lnTo>
                  <a:pt x="11162" y="8235"/>
                </a:lnTo>
              </a:path>
              <a:path w="770" h="547">
                <a:moveTo>
                  <a:pt x="11807" y="8409"/>
                </a:moveTo>
                <a:cubicBezTo>
                  <a:pt x="11641" y="8332"/>
                  <a:pt x="11454" y="8366"/>
                  <a:pt x="11385" y="8582"/>
                </a:cubicBezTo>
                <a:cubicBezTo>
                  <a:pt x="11292" y="8875"/>
                  <a:pt x="11811" y="8579"/>
                  <a:pt x="11857" y="85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15040" y="633240"/>
            <a:ext cx="758880" cy="430560"/>
          </a:xfrm>
          <a:custGeom>
            <a:avLst/>
            <a:gdLst/>
            <a:ahLst/>
            <a:rect l="l" t="t" r="r" b="b"/>
            <a:pathLst>
              <a:path w="2109" h="1192">
                <a:moveTo>
                  <a:pt x="17512" y="1811"/>
                </a:moveTo>
                <a:cubicBezTo>
                  <a:pt x="17366" y="1811"/>
                  <a:pt x="17369" y="1975"/>
                  <a:pt x="17338" y="2084"/>
                </a:cubicBezTo>
                <a:cubicBezTo>
                  <a:pt x="17276" y="2303"/>
                  <a:pt x="17208" y="2564"/>
                  <a:pt x="17314" y="2778"/>
                </a:cubicBezTo>
                <a:cubicBezTo>
                  <a:pt x="17337" y="2825"/>
                  <a:pt x="17425" y="2902"/>
                  <a:pt x="17438" y="2927"/>
                </a:cubicBezTo>
                <a:cubicBezTo>
                  <a:pt x="17438" y="2935"/>
                  <a:pt x="17438" y="2944"/>
                  <a:pt x="17438" y="2952"/>
                </a:cubicBezTo>
              </a:path>
              <a:path w="2109" h="1192">
                <a:moveTo>
                  <a:pt x="17686" y="2381"/>
                </a:moveTo>
                <a:cubicBezTo>
                  <a:pt x="17777" y="2370"/>
                  <a:pt x="17869" y="2350"/>
                  <a:pt x="17959" y="2332"/>
                </a:cubicBezTo>
                <a:cubicBezTo>
                  <a:pt x="18017" y="2332"/>
                  <a:pt x="17893" y="2352"/>
                  <a:pt x="17835" y="2356"/>
                </a:cubicBezTo>
                <a:cubicBezTo>
                  <a:pt x="17736" y="2356"/>
                  <a:pt x="17719" y="2356"/>
                  <a:pt x="17661" y="2356"/>
                </a:cubicBezTo>
                <a:cubicBezTo>
                  <a:pt x="17777" y="2356"/>
                  <a:pt x="18076" y="2306"/>
                  <a:pt x="18132" y="2381"/>
                </a:cubicBezTo>
                <a:cubicBezTo>
                  <a:pt x="18140" y="2389"/>
                  <a:pt x="18149" y="2398"/>
                  <a:pt x="18157" y="2406"/>
                </a:cubicBezTo>
              </a:path>
              <a:path w="2109" h="1192">
                <a:moveTo>
                  <a:pt x="18331" y="2580"/>
                </a:moveTo>
                <a:cubicBezTo>
                  <a:pt x="18440" y="2580"/>
                  <a:pt x="18476" y="2677"/>
                  <a:pt x="18479" y="2778"/>
                </a:cubicBezTo>
                <a:cubicBezTo>
                  <a:pt x="18483" y="2927"/>
                  <a:pt x="18403" y="2927"/>
                  <a:pt x="18306" y="2927"/>
                </a:cubicBezTo>
              </a:path>
              <a:path w="2109" h="1192">
                <a:moveTo>
                  <a:pt x="18802" y="2133"/>
                </a:moveTo>
                <a:cubicBezTo>
                  <a:pt x="18802" y="2108"/>
                  <a:pt x="18802" y="2100"/>
                  <a:pt x="18802" y="2084"/>
                </a:cubicBezTo>
                <a:cubicBezTo>
                  <a:pt x="18848" y="2099"/>
                  <a:pt x="18851" y="2361"/>
                  <a:pt x="18852" y="2381"/>
                </a:cubicBezTo>
                <a:cubicBezTo>
                  <a:pt x="18856" y="2462"/>
                  <a:pt x="18852" y="2547"/>
                  <a:pt x="18852" y="2629"/>
                </a:cubicBezTo>
              </a:path>
              <a:path w="2109" h="1192">
                <a:moveTo>
                  <a:pt x="18653" y="2332"/>
                </a:moveTo>
                <a:cubicBezTo>
                  <a:pt x="18696" y="2268"/>
                  <a:pt x="18859" y="2262"/>
                  <a:pt x="18951" y="2257"/>
                </a:cubicBezTo>
                <a:cubicBezTo>
                  <a:pt x="19012" y="2254"/>
                  <a:pt x="19081" y="2326"/>
                  <a:pt x="19124" y="2282"/>
                </a:cubicBezTo>
                <a:cubicBezTo>
                  <a:pt x="19124" y="2274"/>
                  <a:pt x="19124" y="2265"/>
                  <a:pt x="19124" y="2257"/>
                </a:cubicBezTo>
              </a:path>
              <a:path w="2109" h="1192">
                <a:moveTo>
                  <a:pt x="19100" y="1761"/>
                </a:moveTo>
                <a:cubicBezTo>
                  <a:pt x="19232" y="1828"/>
                  <a:pt x="19314" y="1985"/>
                  <a:pt x="19348" y="2133"/>
                </a:cubicBezTo>
                <a:cubicBezTo>
                  <a:pt x="19401" y="2361"/>
                  <a:pt x="19290" y="2557"/>
                  <a:pt x="19248" y="2778"/>
                </a:cubicBezTo>
                <a:cubicBezTo>
                  <a:pt x="19248" y="2803"/>
                  <a:pt x="19248" y="2811"/>
                  <a:pt x="19248" y="282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29680" y="768240"/>
            <a:ext cx="13464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0762" y="2158"/>
                </a:moveTo>
                <a:cubicBezTo>
                  <a:pt x="20762" y="2058"/>
                  <a:pt x="20770" y="2307"/>
                  <a:pt x="20786" y="2406"/>
                </a:cubicBezTo>
                <a:cubicBezTo>
                  <a:pt x="20832" y="2690"/>
                  <a:pt x="20823" y="2453"/>
                  <a:pt x="20811" y="2332"/>
                </a:cubicBezTo>
                <a:cubicBezTo>
                  <a:pt x="20793" y="2224"/>
                  <a:pt x="20785" y="2217"/>
                  <a:pt x="20786" y="2158"/>
                </a:cubicBezTo>
                <a:cubicBezTo>
                  <a:pt x="20786" y="2150"/>
                  <a:pt x="20786" y="2141"/>
                  <a:pt x="20786" y="2133"/>
                </a:cubicBezTo>
                <a:cubicBezTo>
                  <a:pt x="20798" y="2274"/>
                  <a:pt x="20827" y="2413"/>
                  <a:pt x="20836" y="2555"/>
                </a:cubicBezTo>
              </a:path>
              <a:path w="373" h="423">
                <a:moveTo>
                  <a:pt x="20687" y="2381"/>
                </a:moveTo>
                <a:cubicBezTo>
                  <a:pt x="20777" y="2336"/>
                  <a:pt x="20884" y="2374"/>
                  <a:pt x="20985" y="2332"/>
                </a:cubicBezTo>
                <a:cubicBezTo>
                  <a:pt x="21037" y="2310"/>
                  <a:pt x="21013" y="2323"/>
                  <a:pt x="20985" y="2332"/>
                </a:cubicBezTo>
                <a:cubicBezTo>
                  <a:pt x="20870" y="2389"/>
                  <a:pt x="20792" y="2406"/>
                  <a:pt x="20662" y="2406"/>
                </a:cubicBezTo>
                <a:cubicBezTo>
                  <a:pt x="20670" y="2406"/>
                  <a:pt x="20679" y="2406"/>
                  <a:pt x="20687" y="2406"/>
                </a:cubicBezTo>
                <a:cubicBezTo>
                  <a:pt x="20724" y="2406"/>
                  <a:pt x="20988" y="2406"/>
                  <a:pt x="20861" y="2406"/>
                </a:cubicBezTo>
                <a:cubicBezTo>
                  <a:pt x="20807" y="2406"/>
                  <a:pt x="20626" y="2456"/>
                  <a:pt x="20662" y="2456"/>
                </a:cubicBezTo>
                <a:cubicBezTo>
                  <a:pt x="20759" y="2456"/>
                  <a:pt x="20842" y="2433"/>
                  <a:pt x="20935" y="240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75720" y="608040"/>
            <a:ext cx="777600" cy="455760"/>
          </a:xfrm>
          <a:custGeom>
            <a:avLst/>
            <a:gdLst/>
            <a:ahLst/>
            <a:rect l="l" t="t" r="r" b="b"/>
            <a:pathLst>
              <a:path w="2159" h="1266">
                <a:moveTo>
                  <a:pt x="22051" y="1736"/>
                </a:moveTo>
                <a:cubicBezTo>
                  <a:pt x="22064" y="1697"/>
                  <a:pt x="22063" y="1726"/>
                  <a:pt x="22076" y="1687"/>
                </a:cubicBezTo>
                <a:cubicBezTo>
                  <a:pt x="21985" y="1778"/>
                  <a:pt x="21933" y="1883"/>
                  <a:pt x="21903" y="2009"/>
                </a:cubicBezTo>
                <a:cubicBezTo>
                  <a:pt x="21854" y="2213"/>
                  <a:pt x="21864" y="2438"/>
                  <a:pt x="21952" y="2629"/>
                </a:cubicBezTo>
                <a:cubicBezTo>
                  <a:pt x="21991" y="2714"/>
                  <a:pt x="22086" y="2772"/>
                  <a:pt x="22126" y="2828"/>
                </a:cubicBezTo>
                <a:cubicBezTo>
                  <a:pt x="22142" y="2851"/>
                  <a:pt x="22141" y="2849"/>
                  <a:pt x="22151" y="2877"/>
                </a:cubicBezTo>
              </a:path>
              <a:path w="2159" h="1266">
                <a:moveTo>
                  <a:pt x="22523" y="2034"/>
                </a:moveTo>
                <a:cubicBezTo>
                  <a:pt x="22523" y="2154"/>
                  <a:pt x="22547" y="2290"/>
                  <a:pt x="22572" y="2406"/>
                </a:cubicBezTo>
                <a:cubicBezTo>
                  <a:pt x="22591" y="2463"/>
                  <a:pt x="22600" y="2470"/>
                  <a:pt x="22597" y="2505"/>
                </a:cubicBezTo>
              </a:path>
              <a:path w="2159" h="1266">
                <a:moveTo>
                  <a:pt x="22399" y="2307"/>
                </a:moveTo>
                <a:cubicBezTo>
                  <a:pt x="22332" y="2307"/>
                  <a:pt x="22480" y="2288"/>
                  <a:pt x="22547" y="2282"/>
                </a:cubicBezTo>
                <a:cubicBezTo>
                  <a:pt x="22640" y="2274"/>
                  <a:pt x="22687" y="2278"/>
                  <a:pt x="22771" y="2257"/>
                </a:cubicBezTo>
                <a:cubicBezTo>
                  <a:pt x="22796" y="2257"/>
                  <a:pt x="22804" y="2257"/>
                  <a:pt x="22820" y="2257"/>
                </a:cubicBezTo>
              </a:path>
              <a:path w="2159" h="1266">
                <a:moveTo>
                  <a:pt x="23068" y="2629"/>
                </a:moveTo>
                <a:cubicBezTo>
                  <a:pt x="23089" y="2712"/>
                  <a:pt x="23108" y="2781"/>
                  <a:pt x="23068" y="2877"/>
                </a:cubicBezTo>
                <a:cubicBezTo>
                  <a:pt x="23032" y="2963"/>
                  <a:pt x="23031" y="2952"/>
                  <a:pt x="22969" y="2952"/>
                </a:cubicBezTo>
              </a:path>
              <a:path w="2159" h="1266">
                <a:moveTo>
                  <a:pt x="23540" y="1935"/>
                </a:moveTo>
                <a:cubicBezTo>
                  <a:pt x="23540" y="1826"/>
                  <a:pt x="23566" y="2101"/>
                  <a:pt x="23589" y="2208"/>
                </a:cubicBezTo>
                <a:cubicBezTo>
                  <a:pt x="23609" y="2303"/>
                  <a:pt x="23632" y="2469"/>
                  <a:pt x="23664" y="2555"/>
                </a:cubicBezTo>
              </a:path>
              <a:path w="2159" h="1266">
                <a:moveTo>
                  <a:pt x="23416" y="2257"/>
                </a:moveTo>
                <a:cubicBezTo>
                  <a:pt x="23524" y="2257"/>
                  <a:pt x="23629" y="2235"/>
                  <a:pt x="23738" y="2232"/>
                </a:cubicBezTo>
                <a:cubicBezTo>
                  <a:pt x="23799" y="2230"/>
                  <a:pt x="23887" y="2313"/>
                  <a:pt x="23912" y="2257"/>
                </a:cubicBezTo>
                <a:cubicBezTo>
                  <a:pt x="23920" y="2224"/>
                  <a:pt x="23929" y="2191"/>
                  <a:pt x="23937" y="2158"/>
                </a:cubicBezTo>
              </a:path>
              <a:path w="2159" h="1266">
                <a:moveTo>
                  <a:pt x="23862" y="1761"/>
                </a:moveTo>
                <a:cubicBezTo>
                  <a:pt x="23796" y="1662"/>
                  <a:pt x="24034" y="1954"/>
                  <a:pt x="24036" y="1960"/>
                </a:cubicBezTo>
                <a:cubicBezTo>
                  <a:pt x="24094" y="2177"/>
                  <a:pt x="24017" y="2504"/>
                  <a:pt x="23937" y="2704"/>
                </a:cubicBezTo>
                <a:cubicBezTo>
                  <a:pt x="23899" y="2760"/>
                  <a:pt x="23904" y="2785"/>
                  <a:pt x="23862" y="2778"/>
                </a:cubicBezTo>
                <a:cubicBezTo>
                  <a:pt x="23902" y="2808"/>
                  <a:pt x="23958" y="2805"/>
                  <a:pt x="23937" y="282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9640" y="4938840"/>
            <a:ext cx="679320" cy="687240"/>
          </a:xfrm>
          <a:custGeom>
            <a:avLst/>
            <a:gdLst/>
            <a:ahLst/>
            <a:rect l="l" t="t" r="r" b="b"/>
            <a:pathLst>
              <a:path w="1886" h="1911">
                <a:moveTo>
                  <a:pt x="13767" y="13742"/>
                </a:moveTo>
                <a:cubicBezTo>
                  <a:pt x="13767" y="13940"/>
                  <a:pt x="13883" y="14448"/>
                  <a:pt x="13767" y="14288"/>
                </a:cubicBezTo>
                <a:cubicBezTo>
                  <a:pt x="13759" y="14280"/>
                  <a:pt x="13750" y="14271"/>
                  <a:pt x="13742" y="14263"/>
                </a:cubicBezTo>
                <a:cubicBezTo>
                  <a:pt x="13714" y="14115"/>
                  <a:pt x="13697" y="13967"/>
                  <a:pt x="13692" y="13816"/>
                </a:cubicBezTo>
                <a:cubicBezTo>
                  <a:pt x="13692" y="13775"/>
                  <a:pt x="13692" y="13767"/>
                  <a:pt x="13692" y="13742"/>
                </a:cubicBezTo>
                <a:cubicBezTo>
                  <a:pt x="13578" y="13787"/>
                  <a:pt x="13500" y="13945"/>
                  <a:pt x="13419" y="14039"/>
                </a:cubicBezTo>
                <a:cubicBezTo>
                  <a:pt x="13403" y="14056"/>
                  <a:pt x="13386" y="14072"/>
                  <a:pt x="13370" y="14089"/>
                </a:cubicBezTo>
                <a:cubicBezTo>
                  <a:pt x="13520" y="14070"/>
                  <a:pt x="13665" y="13899"/>
                  <a:pt x="13767" y="13791"/>
                </a:cubicBezTo>
                <a:cubicBezTo>
                  <a:pt x="13804" y="13735"/>
                  <a:pt x="13799" y="13710"/>
                  <a:pt x="13841" y="13717"/>
                </a:cubicBezTo>
                <a:cubicBezTo>
                  <a:pt x="13940" y="13816"/>
                  <a:pt x="14045" y="13941"/>
                  <a:pt x="14163" y="14015"/>
                </a:cubicBezTo>
                <a:cubicBezTo>
                  <a:pt x="14171" y="14015"/>
                  <a:pt x="14180" y="14015"/>
                  <a:pt x="14188" y="14015"/>
                </a:cubicBezTo>
              </a:path>
              <a:path w="1886" h="1911">
                <a:moveTo>
                  <a:pt x="13072" y="15032"/>
                </a:moveTo>
                <a:cubicBezTo>
                  <a:pt x="12891" y="15072"/>
                  <a:pt x="12793" y="15221"/>
                  <a:pt x="12750" y="15404"/>
                </a:cubicBezTo>
                <a:cubicBezTo>
                  <a:pt x="12750" y="15538"/>
                  <a:pt x="12740" y="15577"/>
                  <a:pt x="12824" y="15627"/>
                </a:cubicBezTo>
                <a:cubicBezTo>
                  <a:pt x="13006" y="15532"/>
                  <a:pt x="13236" y="15390"/>
                  <a:pt x="13022" y="15156"/>
                </a:cubicBezTo>
                <a:cubicBezTo>
                  <a:pt x="12997" y="15148"/>
                  <a:pt x="12973" y="15139"/>
                  <a:pt x="12948" y="15131"/>
                </a:cubicBezTo>
              </a:path>
              <a:path w="1886" h="1911">
                <a:moveTo>
                  <a:pt x="13246" y="15156"/>
                </a:moveTo>
                <a:cubicBezTo>
                  <a:pt x="13319" y="15292"/>
                  <a:pt x="13392" y="15420"/>
                  <a:pt x="13469" y="15553"/>
                </a:cubicBezTo>
                <a:cubicBezTo>
                  <a:pt x="13503" y="15462"/>
                  <a:pt x="13466" y="15260"/>
                  <a:pt x="13543" y="15180"/>
                </a:cubicBezTo>
                <a:cubicBezTo>
                  <a:pt x="13610" y="15158"/>
                  <a:pt x="13628" y="15147"/>
                  <a:pt x="13667" y="15180"/>
                </a:cubicBezTo>
              </a:path>
              <a:path w="1886" h="1911">
                <a:moveTo>
                  <a:pt x="13717" y="15280"/>
                </a:moveTo>
                <a:cubicBezTo>
                  <a:pt x="13848" y="15252"/>
                  <a:pt x="13951" y="15281"/>
                  <a:pt x="13965" y="15156"/>
                </a:cubicBezTo>
                <a:cubicBezTo>
                  <a:pt x="13830" y="15111"/>
                  <a:pt x="13714" y="15178"/>
                  <a:pt x="13717" y="15354"/>
                </a:cubicBezTo>
                <a:cubicBezTo>
                  <a:pt x="13722" y="15636"/>
                  <a:pt x="13853" y="15554"/>
                  <a:pt x="14015" y="15503"/>
                </a:cubicBezTo>
              </a:path>
              <a:path w="1886" h="1911">
                <a:moveTo>
                  <a:pt x="14188" y="15280"/>
                </a:moveTo>
                <a:cubicBezTo>
                  <a:pt x="14208" y="15397"/>
                  <a:pt x="14201" y="15419"/>
                  <a:pt x="14238" y="15478"/>
                </a:cubicBezTo>
                <a:cubicBezTo>
                  <a:pt x="14204" y="15311"/>
                  <a:pt x="14210" y="15239"/>
                  <a:pt x="14362" y="15131"/>
                </a:cubicBezTo>
                <a:cubicBezTo>
                  <a:pt x="14451" y="15068"/>
                  <a:pt x="14550" y="15088"/>
                  <a:pt x="14635" y="1505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5120" y="2401920"/>
            <a:ext cx="3206880" cy="2519280"/>
          </a:xfrm>
          <a:custGeom>
            <a:avLst/>
            <a:gdLst/>
            <a:ahLst/>
            <a:rect l="l" t="t" r="r" b="b"/>
            <a:pathLst>
              <a:path w="8906" h="6996">
                <a:moveTo>
                  <a:pt x="13543" y="12477"/>
                </a:moveTo>
                <a:cubicBezTo>
                  <a:pt x="13707" y="12629"/>
                  <a:pt x="13831" y="12815"/>
                  <a:pt x="13965" y="12998"/>
                </a:cubicBezTo>
              </a:path>
              <a:path w="8906" h="6996">
                <a:moveTo>
                  <a:pt x="14337" y="13146"/>
                </a:moveTo>
                <a:cubicBezTo>
                  <a:pt x="14294" y="13325"/>
                  <a:pt x="14303" y="13603"/>
                  <a:pt x="14089" y="13519"/>
                </a:cubicBezTo>
              </a:path>
              <a:path w="8906" h="6996">
                <a:moveTo>
                  <a:pt x="14684" y="12551"/>
                </a:moveTo>
                <a:cubicBezTo>
                  <a:pt x="14663" y="12718"/>
                  <a:pt x="14598" y="12872"/>
                  <a:pt x="14759" y="12998"/>
                </a:cubicBezTo>
                <a:cubicBezTo>
                  <a:pt x="15007" y="13192"/>
                  <a:pt x="15161" y="12840"/>
                  <a:pt x="15156" y="12650"/>
                </a:cubicBezTo>
                <a:cubicBezTo>
                  <a:pt x="15148" y="12634"/>
                  <a:pt x="15139" y="12617"/>
                  <a:pt x="15131" y="12601"/>
                </a:cubicBezTo>
                <a:cubicBezTo>
                  <a:pt x="15197" y="12808"/>
                  <a:pt x="15325" y="13069"/>
                  <a:pt x="15280" y="13295"/>
                </a:cubicBezTo>
                <a:cubicBezTo>
                  <a:pt x="15225" y="13572"/>
                  <a:pt x="14710" y="13700"/>
                  <a:pt x="14734" y="13618"/>
                </a:cubicBezTo>
                <a:cubicBezTo>
                  <a:pt x="14775" y="13577"/>
                  <a:pt x="14817" y="13535"/>
                  <a:pt x="14858" y="13494"/>
                </a:cubicBezTo>
              </a:path>
              <a:path w="8906" h="6996">
                <a:moveTo>
                  <a:pt x="15032" y="11881"/>
                </a:moveTo>
                <a:cubicBezTo>
                  <a:pt x="15402" y="12050"/>
                  <a:pt x="15685" y="12359"/>
                  <a:pt x="15701" y="12799"/>
                </a:cubicBezTo>
                <a:cubicBezTo>
                  <a:pt x="15710" y="13053"/>
                  <a:pt x="15515" y="13234"/>
                  <a:pt x="15354" y="13395"/>
                </a:cubicBezTo>
              </a:path>
              <a:path w="8906" h="6996">
                <a:moveTo>
                  <a:pt x="15106" y="11906"/>
                </a:moveTo>
                <a:cubicBezTo>
                  <a:pt x="15054" y="11941"/>
                  <a:pt x="15021" y="11810"/>
                  <a:pt x="15007" y="11733"/>
                </a:cubicBezTo>
                <a:cubicBezTo>
                  <a:pt x="14972" y="11543"/>
                  <a:pt x="14983" y="11351"/>
                  <a:pt x="14957" y="11162"/>
                </a:cubicBezTo>
                <a:cubicBezTo>
                  <a:pt x="14957" y="11445"/>
                  <a:pt x="14957" y="11724"/>
                  <a:pt x="14932" y="12005"/>
                </a:cubicBezTo>
                <a:cubicBezTo>
                  <a:pt x="14927" y="12062"/>
                  <a:pt x="14861" y="11937"/>
                  <a:pt x="14833" y="11906"/>
                </a:cubicBezTo>
                <a:cubicBezTo>
                  <a:pt x="14810" y="11883"/>
                  <a:pt x="14799" y="11875"/>
                  <a:pt x="14833" y="11881"/>
                </a:cubicBezTo>
              </a:path>
              <a:path w="8906" h="6996">
                <a:moveTo>
                  <a:pt x="14610" y="11683"/>
                </a:moveTo>
                <a:cubicBezTo>
                  <a:pt x="14769" y="11810"/>
                  <a:pt x="14847" y="11966"/>
                  <a:pt x="15056" y="12030"/>
                </a:cubicBezTo>
                <a:cubicBezTo>
                  <a:pt x="15081" y="12030"/>
                  <a:pt x="15106" y="12030"/>
                  <a:pt x="15131" y="12030"/>
                </a:cubicBezTo>
                <a:cubicBezTo>
                  <a:pt x="15155" y="11942"/>
                  <a:pt x="15165" y="11849"/>
                  <a:pt x="15180" y="11757"/>
                </a:cubicBezTo>
              </a:path>
              <a:path w="8906" h="6996">
                <a:moveTo>
                  <a:pt x="22448" y="6672"/>
                </a:moveTo>
                <a:cubicBezTo>
                  <a:pt x="22403" y="6831"/>
                  <a:pt x="22393" y="6874"/>
                  <a:pt x="22349" y="697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29680" y="2268360"/>
            <a:ext cx="134640" cy="44640"/>
          </a:xfrm>
          <a:custGeom>
            <a:avLst/>
            <a:gdLst/>
            <a:ahLst/>
            <a:rect l="l" t="t" r="r" b="b"/>
            <a:pathLst>
              <a:path w="373" h="125">
                <a:moveTo>
                  <a:pt x="20638" y="6300"/>
                </a:moveTo>
                <a:cubicBezTo>
                  <a:pt x="20703" y="6366"/>
                  <a:pt x="20916" y="6212"/>
                  <a:pt x="20886" y="6300"/>
                </a:cubicBezTo>
                <a:cubicBezTo>
                  <a:pt x="20853" y="6398"/>
                  <a:pt x="20716" y="6396"/>
                  <a:pt x="20638" y="6424"/>
                </a:cubicBezTo>
                <a:cubicBezTo>
                  <a:pt x="20690" y="6386"/>
                  <a:pt x="20742" y="6400"/>
                  <a:pt x="20811" y="6400"/>
                </a:cubicBezTo>
                <a:cubicBezTo>
                  <a:pt x="20879" y="6400"/>
                  <a:pt x="20729" y="6412"/>
                  <a:pt x="20786" y="6375"/>
                </a:cubicBezTo>
                <a:cubicBezTo>
                  <a:pt x="20809" y="6352"/>
                  <a:pt x="20813" y="6344"/>
                  <a:pt x="20836" y="6350"/>
                </a:cubicBezTo>
                <a:cubicBezTo>
                  <a:pt x="20811" y="6356"/>
                  <a:pt x="20652" y="6386"/>
                  <a:pt x="20737" y="6375"/>
                </a:cubicBezTo>
                <a:cubicBezTo>
                  <a:pt x="20828" y="6375"/>
                  <a:pt x="20870" y="6372"/>
                  <a:pt x="20935" y="6350"/>
                </a:cubicBezTo>
                <a:cubicBezTo>
                  <a:pt x="20973" y="6312"/>
                  <a:pt x="20840" y="6369"/>
                  <a:pt x="20762" y="6375"/>
                </a:cubicBezTo>
                <a:cubicBezTo>
                  <a:pt x="20687" y="6375"/>
                  <a:pt x="20629" y="6375"/>
                  <a:pt x="20687" y="6375"/>
                </a:cubicBezTo>
                <a:cubicBezTo>
                  <a:pt x="20762" y="6369"/>
                  <a:pt x="20985" y="6350"/>
                  <a:pt x="20910" y="6350"/>
                </a:cubicBezTo>
                <a:cubicBezTo>
                  <a:pt x="20820" y="6350"/>
                  <a:pt x="20980" y="6303"/>
                  <a:pt x="21010" y="63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75720" y="1393920"/>
            <a:ext cx="16956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22151" y="3969"/>
                </a:moveTo>
                <a:cubicBezTo>
                  <a:pt x="22139" y="3908"/>
                  <a:pt x="22117" y="3778"/>
                  <a:pt x="22101" y="3969"/>
                </a:cubicBezTo>
                <a:cubicBezTo>
                  <a:pt x="22101" y="4068"/>
                  <a:pt x="22101" y="4084"/>
                  <a:pt x="22101" y="4142"/>
                </a:cubicBezTo>
                <a:cubicBezTo>
                  <a:pt x="22101" y="4200"/>
                  <a:pt x="22101" y="4076"/>
                  <a:pt x="22101" y="4018"/>
                </a:cubicBezTo>
                <a:cubicBezTo>
                  <a:pt x="22101" y="3972"/>
                  <a:pt x="22101" y="3785"/>
                  <a:pt x="22101" y="3944"/>
                </a:cubicBezTo>
                <a:cubicBezTo>
                  <a:pt x="22101" y="4076"/>
                  <a:pt x="22101" y="4109"/>
                  <a:pt x="22101" y="4192"/>
                </a:cubicBezTo>
              </a:path>
              <a:path w="472" h="373">
                <a:moveTo>
                  <a:pt x="21878" y="4068"/>
                </a:moveTo>
                <a:cubicBezTo>
                  <a:pt x="21979" y="4068"/>
                  <a:pt x="22072" y="4046"/>
                  <a:pt x="22175" y="4043"/>
                </a:cubicBezTo>
                <a:cubicBezTo>
                  <a:pt x="22239" y="4041"/>
                  <a:pt x="22267" y="4029"/>
                  <a:pt x="22324" y="4018"/>
                </a:cubicBezTo>
                <a:cubicBezTo>
                  <a:pt x="22224" y="4027"/>
                  <a:pt x="22128" y="4038"/>
                  <a:pt x="22027" y="4043"/>
                </a:cubicBezTo>
                <a:cubicBezTo>
                  <a:pt x="21984" y="4001"/>
                  <a:pt x="22246" y="4018"/>
                  <a:pt x="22299" y="4018"/>
                </a:cubicBezTo>
                <a:cubicBezTo>
                  <a:pt x="22431" y="4018"/>
                  <a:pt x="22219" y="4041"/>
                  <a:pt x="22200" y="4043"/>
                </a:cubicBezTo>
              </a:path>
              <a:path w="472" h="373">
                <a:moveTo>
                  <a:pt x="22151" y="3919"/>
                </a:moveTo>
                <a:cubicBezTo>
                  <a:pt x="22151" y="3835"/>
                  <a:pt x="22169" y="4035"/>
                  <a:pt x="22175" y="4118"/>
                </a:cubicBezTo>
                <a:cubicBezTo>
                  <a:pt x="22175" y="4192"/>
                  <a:pt x="22175" y="4201"/>
                  <a:pt x="22175" y="4242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66920" y="3276720"/>
            <a:ext cx="2392200" cy="884160"/>
          </a:xfrm>
          <a:custGeom>
            <a:avLst/>
            <a:gdLst/>
            <a:ahLst/>
            <a:rect l="l" t="t" r="r" b="b"/>
            <a:pathLst>
              <a:path w="6649" h="2457">
                <a:moveTo>
                  <a:pt x="4217" y="9153"/>
                </a:moveTo>
                <a:cubicBezTo>
                  <a:pt x="4182" y="8946"/>
                  <a:pt x="3954" y="9357"/>
                  <a:pt x="3870" y="9550"/>
                </a:cubicBezTo>
                <a:cubicBezTo>
                  <a:pt x="3836" y="9628"/>
                  <a:pt x="3767" y="10196"/>
                  <a:pt x="4068" y="10021"/>
                </a:cubicBezTo>
                <a:cubicBezTo>
                  <a:pt x="4093" y="9988"/>
                  <a:pt x="4117" y="9955"/>
                  <a:pt x="4142" y="9922"/>
                </a:cubicBezTo>
              </a:path>
              <a:path w="6649" h="2457">
                <a:moveTo>
                  <a:pt x="6772" y="9947"/>
                </a:moveTo>
                <a:cubicBezTo>
                  <a:pt x="6789" y="10098"/>
                  <a:pt x="6837" y="10188"/>
                  <a:pt x="6747" y="10220"/>
                </a:cubicBezTo>
              </a:path>
              <a:path w="6649" h="2457">
                <a:moveTo>
                  <a:pt x="9971" y="10840"/>
                </a:moveTo>
                <a:cubicBezTo>
                  <a:pt x="10039" y="11078"/>
                  <a:pt x="10113" y="11314"/>
                  <a:pt x="10145" y="11559"/>
                </a:cubicBezTo>
              </a:path>
              <a:path w="6649" h="2457">
                <a:moveTo>
                  <a:pt x="10418" y="11038"/>
                </a:moveTo>
                <a:cubicBezTo>
                  <a:pt x="10426" y="11038"/>
                  <a:pt x="10435" y="11038"/>
                  <a:pt x="10443" y="1103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35040" y="3330720"/>
            <a:ext cx="2251080" cy="884160"/>
          </a:xfrm>
          <a:custGeom>
            <a:avLst/>
            <a:gdLst/>
            <a:ahLst/>
            <a:rect l="l" t="t" r="r" b="b"/>
            <a:pathLst>
              <a:path w="6252" h="2457">
                <a:moveTo>
                  <a:pt x="4638" y="9252"/>
                </a:moveTo>
                <a:cubicBezTo>
                  <a:pt x="4620" y="9443"/>
                  <a:pt x="4637" y="9633"/>
                  <a:pt x="4663" y="9823"/>
                </a:cubicBezTo>
                <a:cubicBezTo>
                  <a:pt x="4663" y="9831"/>
                  <a:pt x="4663" y="9839"/>
                  <a:pt x="4663" y="9847"/>
                </a:cubicBezTo>
              </a:path>
              <a:path w="6252" h="2457">
                <a:moveTo>
                  <a:pt x="4266" y="9525"/>
                </a:moveTo>
                <a:cubicBezTo>
                  <a:pt x="4488" y="9541"/>
                  <a:pt x="4804" y="9435"/>
                  <a:pt x="5011" y="9500"/>
                </a:cubicBezTo>
                <a:cubicBezTo>
                  <a:pt x="5019" y="9517"/>
                  <a:pt x="5027" y="9533"/>
                  <a:pt x="5035" y="9550"/>
                </a:cubicBezTo>
              </a:path>
              <a:path w="6252" h="2457">
                <a:moveTo>
                  <a:pt x="5283" y="9922"/>
                </a:moveTo>
                <a:cubicBezTo>
                  <a:pt x="5283" y="10044"/>
                  <a:pt x="5300" y="10092"/>
                  <a:pt x="5234" y="10170"/>
                </a:cubicBezTo>
              </a:path>
              <a:path w="6252" h="2457">
                <a:moveTo>
                  <a:pt x="5804" y="9599"/>
                </a:moveTo>
                <a:cubicBezTo>
                  <a:pt x="5956" y="9585"/>
                  <a:pt x="6099" y="9575"/>
                  <a:pt x="6251" y="9575"/>
                </a:cubicBezTo>
              </a:path>
              <a:path w="6252" h="2457">
                <a:moveTo>
                  <a:pt x="4638" y="11237"/>
                </a:moveTo>
                <a:cubicBezTo>
                  <a:pt x="4615" y="11165"/>
                  <a:pt x="4564" y="11066"/>
                  <a:pt x="4564" y="10988"/>
                </a:cubicBezTo>
                <a:cubicBezTo>
                  <a:pt x="4583" y="10931"/>
                  <a:pt x="4592" y="10924"/>
                  <a:pt x="4589" y="10889"/>
                </a:cubicBezTo>
                <a:cubicBezTo>
                  <a:pt x="4864" y="10889"/>
                  <a:pt x="5133" y="10866"/>
                  <a:pt x="5407" y="10840"/>
                </a:cubicBezTo>
                <a:cubicBezTo>
                  <a:pt x="5802" y="10802"/>
                  <a:pt x="6201" y="10793"/>
                  <a:pt x="6598" y="10790"/>
                </a:cubicBezTo>
                <a:cubicBezTo>
                  <a:pt x="7170" y="10786"/>
                  <a:pt x="7738" y="10740"/>
                  <a:pt x="8310" y="10740"/>
                </a:cubicBezTo>
                <a:cubicBezTo>
                  <a:pt x="8426" y="10740"/>
                  <a:pt x="8541" y="10740"/>
                  <a:pt x="8657" y="10740"/>
                </a:cubicBezTo>
                <a:cubicBezTo>
                  <a:pt x="8685" y="10864"/>
                  <a:pt x="8726" y="10988"/>
                  <a:pt x="8756" y="11112"/>
                </a:cubicBezTo>
                <a:cubicBezTo>
                  <a:pt x="8756" y="11120"/>
                  <a:pt x="8756" y="11129"/>
                  <a:pt x="8756" y="11137"/>
                </a:cubicBezTo>
              </a:path>
              <a:path w="6252" h="2457">
                <a:moveTo>
                  <a:pt x="8731" y="11286"/>
                </a:moveTo>
                <a:cubicBezTo>
                  <a:pt x="8799" y="11331"/>
                  <a:pt x="8856" y="11551"/>
                  <a:pt x="8905" y="11658"/>
                </a:cubicBezTo>
                <a:cubicBezTo>
                  <a:pt x="8913" y="11675"/>
                  <a:pt x="8922" y="11691"/>
                  <a:pt x="8930" y="11708"/>
                </a:cubicBezTo>
                <a:cubicBezTo>
                  <a:pt x="8918" y="11569"/>
                  <a:pt x="8866" y="11326"/>
                  <a:pt x="9029" y="11237"/>
                </a:cubicBezTo>
                <a:cubicBezTo>
                  <a:pt x="9054" y="11245"/>
                  <a:pt x="9078" y="11253"/>
                  <a:pt x="9103" y="11261"/>
                </a:cubicBezTo>
              </a:path>
              <a:path w="6252" h="2457">
                <a:moveTo>
                  <a:pt x="9153" y="11509"/>
                </a:moveTo>
                <a:cubicBezTo>
                  <a:pt x="9254" y="11466"/>
                  <a:pt x="9401" y="11400"/>
                  <a:pt x="9401" y="11336"/>
                </a:cubicBezTo>
                <a:cubicBezTo>
                  <a:pt x="9233" y="11294"/>
                  <a:pt x="9018" y="11285"/>
                  <a:pt x="9103" y="11559"/>
                </a:cubicBezTo>
                <a:cubicBezTo>
                  <a:pt x="9189" y="11834"/>
                  <a:pt x="9442" y="11548"/>
                  <a:pt x="9525" y="11460"/>
                </a:cubicBezTo>
              </a:path>
              <a:path w="6252" h="2457">
                <a:moveTo>
                  <a:pt x="9550" y="11385"/>
                </a:moveTo>
                <a:cubicBezTo>
                  <a:pt x="9588" y="11519"/>
                  <a:pt x="9585" y="11540"/>
                  <a:pt x="9624" y="11609"/>
                </a:cubicBezTo>
                <a:cubicBezTo>
                  <a:pt x="9603" y="11486"/>
                  <a:pt x="9553" y="11347"/>
                  <a:pt x="9649" y="11237"/>
                </a:cubicBezTo>
                <a:cubicBezTo>
                  <a:pt x="9674" y="11229"/>
                  <a:pt x="9698" y="11220"/>
                  <a:pt x="9723" y="11212"/>
                </a:cubicBezTo>
              </a:path>
              <a:path w="6252" h="2457">
                <a:moveTo>
                  <a:pt x="9872" y="11162"/>
                </a:moveTo>
                <a:cubicBezTo>
                  <a:pt x="10061" y="11162"/>
                  <a:pt x="10287" y="11137"/>
                  <a:pt x="10418" y="11311"/>
                </a:cubicBezTo>
                <a:cubicBezTo>
                  <a:pt x="10486" y="11401"/>
                  <a:pt x="10503" y="11526"/>
                  <a:pt x="10517" y="1163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4321080"/>
            <a:ext cx="366840" cy="492120"/>
          </a:xfrm>
          <a:custGeom>
            <a:avLst/>
            <a:gdLst/>
            <a:ahLst/>
            <a:rect l="l" t="t" r="r" b="b"/>
            <a:pathLst>
              <a:path w="1018" h="1366">
                <a:moveTo>
                  <a:pt x="13246" y="12005"/>
                </a:moveTo>
                <a:cubicBezTo>
                  <a:pt x="13211" y="12283"/>
                  <a:pt x="12994" y="12544"/>
                  <a:pt x="12923" y="12824"/>
                </a:cubicBezTo>
                <a:cubicBezTo>
                  <a:pt x="12851" y="13108"/>
                  <a:pt x="12921" y="13287"/>
                  <a:pt x="13196" y="13370"/>
                </a:cubicBezTo>
                <a:cubicBezTo>
                  <a:pt x="13204" y="13370"/>
                  <a:pt x="13213" y="13370"/>
                  <a:pt x="13221" y="13370"/>
                </a:cubicBezTo>
              </a:path>
              <a:path w="1018" h="1366">
                <a:moveTo>
                  <a:pt x="13915" y="12378"/>
                </a:moveTo>
                <a:cubicBezTo>
                  <a:pt x="13791" y="12626"/>
                  <a:pt x="13628" y="12881"/>
                  <a:pt x="13543" y="13146"/>
                </a:cubicBezTo>
                <a:cubicBezTo>
                  <a:pt x="13543" y="13197"/>
                  <a:pt x="13568" y="13199"/>
                  <a:pt x="13643" y="1314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24120" y="3268800"/>
            <a:ext cx="142920" cy="374400"/>
          </a:xfrm>
          <a:custGeom>
            <a:avLst/>
            <a:gdLst/>
            <a:ahLst/>
            <a:rect l="l" t="t" r="r" b="b"/>
            <a:pathLst>
              <a:path w="398" h="1042">
                <a:moveTo>
                  <a:pt x="7565" y="9079"/>
                </a:moveTo>
                <a:cubicBezTo>
                  <a:pt x="7762" y="9265"/>
                  <a:pt x="8108" y="9603"/>
                  <a:pt x="7938" y="9922"/>
                </a:cubicBezTo>
                <a:cubicBezTo>
                  <a:pt x="7886" y="10020"/>
                  <a:pt x="7664" y="10095"/>
                  <a:pt x="7590" y="1009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1840" y="3394080"/>
            <a:ext cx="160200" cy="20484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7342" y="9426"/>
                </a:moveTo>
                <a:cubicBezTo>
                  <a:pt x="7163" y="9630"/>
                  <a:pt x="7128" y="9746"/>
                  <a:pt x="7218" y="9996"/>
                </a:cubicBezTo>
                <a:cubicBezTo>
                  <a:pt x="7330" y="9978"/>
                  <a:pt x="7812" y="9839"/>
                  <a:pt x="7541" y="9624"/>
                </a:cubicBezTo>
                <a:cubicBezTo>
                  <a:pt x="7402" y="9585"/>
                  <a:pt x="7370" y="9595"/>
                  <a:pt x="7317" y="952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4419720"/>
            <a:ext cx="768240" cy="250560"/>
          </a:xfrm>
          <a:custGeom>
            <a:avLst/>
            <a:gdLst/>
            <a:ahLst/>
            <a:rect l="l" t="t" r="r" b="b"/>
            <a:pathLst>
              <a:path w="2134" h="696">
                <a:moveTo>
                  <a:pt x="4415" y="12973"/>
                </a:moveTo>
                <a:lnTo>
                  <a:pt x="4415" y="12973"/>
                </a:lnTo>
              </a:path>
              <a:path w="2134" h="696">
                <a:moveTo>
                  <a:pt x="4217" y="12526"/>
                </a:moveTo>
                <a:cubicBezTo>
                  <a:pt x="4165" y="12477"/>
                  <a:pt x="4189" y="12450"/>
                  <a:pt x="4316" y="12427"/>
                </a:cubicBezTo>
              </a:path>
              <a:path w="2134" h="696">
                <a:moveTo>
                  <a:pt x="4663" y="12278"/>
                </a:moveTo>
                <a:cubicBezTo>
                  <a:pt x="4671" y="12278"/>
                  <a:pt x="4680" y="12278"/>
                  <a:pt x="4688" y="12278"/>
                </a:cubicBezTo>
              </a:path>
              <a:path w="2134" h="696">
                <a:moveTo>
                  <a:pt x="5581" y="12551"/>
                </a:moveTo>
                <a:cubicBezTo>
                  <a:pt x="5831" y="12565"/>
                  <a:pt x="6074" y="12564"/>
                  <a:pt x="6325" y="12576"/>
                </a:cubicBezTo>
              </a:path>
              <a:path w="2134" h="696">
                <a:moveTo>
                  <a:pt x="6325" y="12576"/>
                </a:moveTo>
                <a:lnTo>
                  <a:pt x="6325" y="12576"/>
                </a:ln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960" y="4348080"/>
            <a:ext cx="1893960" cy="384120"/>
          </a:xfrm>
          <a:custGeom>
            <a:avLst/>
            <a:gdLst/>
            <a:ahLst/>
            <a:rect l="l" t="t" r="r" b="b"/>
            <a:pathLst>
              <a:path w="5260" h="1067">
                <a:moveTo>
                  <a:pt x="1860" y="12229"/>
                </a:moveTo>
                <a:cubicBezTo>
                  <a:pt x="1934" y="12302"/>
                  <a:pt x="1899" y="12571"/>
                  <a:pt x="1935" y="12700"/>
                </a:cubicBezTo>
                <a:cubicBezTo>
                  <a:pt x="1998" y="12926"/>
                  <a:pt x="2192" y="12834"/>
                  <a:pt x="2332" y="12750"/>
                </a:cubicBezTo>
                <a:cubicBezTo>
                  <a:pt x="2375" y="12724"/>
                  <a:pt x="2381" y="12726"/>
                  <a:pt x="2381" y="12675"/>
                </a:cubicBezTo>
              </a:path>
              <a:path w="5260" h="1067">
                <a:moveTo>
                  <a:pt x="2208" y="12477"/>
                </a:moveTo>
                <a:cubicBezTo>
                  <a:pt x="2256" y="12496"/>
                  <a:pt x="2466" y="12560"/>
                  <a:pt x="2480" y="12601"/>
                </a:cubicBezTo>
                <a:cubicBezTo>
                  <a:pt x="2528" y="12737"/>
                  <a:pt x="2362" y="12868"/>
                  <a:pt x="2282" y="12948"/>
                </a:cubicBezTo>
              </a:path>
              <a:path w="5260" h="1067">
                <a:moveTo>
                  <a:pt x="2828" y="12328"/>
                </a:moveTo>
                <a:cubicBezTo>
                  <a:pt x="2848" y="12563"/>
                  <a:pt x="2921" y="12787"/>
                  <a:pt x="2952" y="13022"/>
                </a:cubicBezTo>
                <a:cubicBezTo>
                  <a:pt x="2952" y="13039"/>
                  <a:pt x="2952" y="13055"/>
                  <a:pt x="2952" y="13072"/>
                </a:cubicBezTo>
                <a:cubicBezTo>
                  <a:pt x="2952" y="12978"/>
                  <a:pt x="2925" y="12858"/>
                  <a:pt x="2977" y="12774"/>
                </a:cubicBezTo>
                <a:cubicBezTo>
                  <a:pt x="3132" y="12523"/>
                  <a:pt x="3264" y="12782"/>
                  <a:pt x="3324" y="12923"/>
                </a:cubicBezTo>
                <a:cubicBezTo>
                  <a:pt x="3375" y="13044"/>
                  <a:pt x="3386" y="13044"/>
                  <a:pt x="3349" y="13146"/>
                </a:cubicBezTo>
              </a:path>
              <a:path w="5260" h="1067">
                <a:moveTo>
                  <a:pt x="3497" y="12750"/>
                </a:moveTo>
                <a:cubicBezTo>
                  <a:pt x="3456" y="12876"/>
                  <a:pt x="3461" y="12943"/>
                  <a:pt x="3473" y="13072"/>
                </a:cubicBezTo>
                <a:cubicBezTo>
                  <a:pt x="3653" y="13115"/>
                  <a:pt x="3788" y="13083"/>
                  <a:pt x="3721" y="12849"/>
                </a:cubicBezTo>
                <a:cubicBezTo>
                  <a:pt x="3683" y="12714"/>
                  <a:pt x="3632" y="12750"/>
                  <a:pt x="3522" y="12750"/>
                </a:cubicBezTo>
              </a:path>
              <a:path w="5260" h="1067">
                <a:moveTo>
                  <a:pt x="3894" y="12799"/>
                </a:moveTo>
                <a:cubicBezTo>
                  <a:pt x="3907" y="12876"/>
                  <a:pt x="3935" y="12925"/>
                  <a:pt x="3969" y="12998"/>
                </a:cubicBezTo>
                <a:cubicBezTo>
                  <a:pt x="3952" y="12880"/>
                  <a:pt x="3913" y="12790"/>
                  <a:pt x="4043" y="12725"/>
                </a:cubicBezTo>
                <a:cubicBezTo>
                  <a:pt x="4142" y="12700"/>
                  <a:pt x="4176" y="12692"/>
                  <a:pt x="4242" y="12675"/>
                </a:cubicBezTo>
              </a:path>
              <a:path w="5260" h="1067">
                <a:moveTo>
                  <a:pt x="4341" y="12750"/>
                </a:moveTo>
                <a:cubicBezTo>
                  <a:pt x="4356" y="12791"/>
                  <a:pt x="4415" y="13090"/>
                  <a:pt x="4415" y="12973"/>
                </a:cubicBezTo>
              </a:path>
              <a:path w="5260" h="1067">
                <a:moveTo>
                  <a:pt x="4663" y="12650"/>
                </a:moveTo>
                <a:cubicBezTo>
                  <a:pt x="4774" y="12638"/>
                  <a:pt x="4811" y="12639"/>
                  <a:pt x="4936" y="12650"/>
                </a:cubicBezTo>
                <a:cubicBezTo>
                  <a:pt x="4937" y="12829"/>
                  <a:pt x="4849" y="12873"/>
                  <a:pt x="4713" y="12998"/>
                </a:cubicBezTo>
                <a:cubicBezTo>
                  <a:pt x="4825" y="12988"/>
                  <a:pt x="4905" y="12960"/>
                  <a:pt x="5011" y="12923"/>
                </a:cubicBezTo>
              </a:path>
              <a:path w="5260" h="1067">
                <a:moveTo>
                  <a:pt x="5308" y="12576"/>
                </a:moveTo>
                <a:cubicBezTo>
                  <a:pt x="5131" y="12680"/>
                  <a:pt x="5132" y="12759"/>
                  <a:pt x="5184" y="12948"/>
                </a:cubicBezTo>
                <a:cubicBezTo>
                  <a:pt x="5366" y="12868"/>
                  <a:pt x="5424" y="12832"/>
                  <a:pt x="5308" y="12650"/>
                </a:cubicBezTo>
                <a:cubicBezTo>
                  <a:pt x="5522" y="12722"/>
                  <a:pt x="5481" y="12901"/>
                  <a:pt x="5581" y="12973"/>
                </a:cubicBezTo>
                <a:cubicBezTo>
                  <a:pt x="5581" y="12948"/>
                  <a:pt x="5581" y="12923"/>
                  <a:pt x="5581" y="12898"/>
                </a:cubicBezTo>
                <a:cubicBezTo>
                  <a:pt x="5614" y="12528"/>
                  <a:pt x="5627" y="12764"/>
                  <a:pt x="5804" y="12898"/>
                </a:cubicBezTo>
                <a:cubicBezTo>
                  <a:pt x="5900" y="12898"/>
                  <a:pt x="5935" y="12856"/>
                  <a:pt x="5928" y="12725"/>
                </a:cubicBezTo>
              </a:path>
              <a:path w="5260" h="1067">
                <a:moveTo>
                  <a:pt x="5978" y="12254"/>
                </a:moveTo>
                <a:cubicBezTo>
                  <a:pt x="5989" y="12480"/>
                  <a:pt x="5997" y="12740"/>
                  <a:pt x="6102" y="12948"/>
                </a:cubicBezTo>
                <a:cubicBezTo>
                  <a:pt x="6102" y="12931"/>
                  <a:pt x="6102" y="12915"/>
                  <a:pt x="6102" y="12898"/>
                </a:cubicBezTo>
              </a:path>
              <a:path w="5260" h="1067">
                <a:moveTo>
                  <a:pt x="6548" y="12576"/>
                </a:moveTo>
                <a:cubicBezTo>
                  <a:pt x="6336" y="12533"/>
                  <a:pt x="6288" y="12684"/>
                  <a:pt x="6201" y="12849"/>
                </a:cubicBezTo>
                <a:cubicBezTo>
                  <a:pt x="6402" y="12942"/>
                  <a:pt x="6472" y="12870"/>
                  <a:pt x="6524" y="12650"/>
                </a:cubicBezTo>
                <a:cubicBezTo>
                  <a:pt x="6611" y="12793"/>
                  <a:pt x="6654" y="12927"/>
                  <a:pt x="6871" y="12799"/>
                </a:cubicBezTo>
                <a:cubicBezTo>
                  <a:pt x="7228" y="12588"/>
                  <a:pt x="7047" y="12263"/>
                  <a:pt x="6846" y="12080"/>
                </a:cubicBezTo>
                <a:cubicBezTo>
                  <a:pt x="6750" y="12319"/>
                  <a:pt x="6748" y="12732"/>
                  <a:pt x="7069" y="12898"/>
                </a:cubicBezTo>
                <a:cubicBezTo>
                  <a:pt x="7086" y="12882"/>
                  <a:pt x="7102" y="12865"/>
                  <a:pt x="7119" y="12849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40120" y="3830760"/>
            <a:ext cx="47304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0964" y="11162"/>
                </a:moveTo>
                <a:cubicBezTo>
                  <a:pt x="10849" y="11048"/>
                  <a:pt x="10793" y="11094"/>
                  <a:pt x="10716" y="11261"/>
                </a:cubicBezTo>
                <a:cubicBezTo>
                  <a:pt x="10668" y="11428"/>
                  <a:pt x="10647" y="11480"/>
                  <a:pt x="10765" y="11559"/>
                </a:cubicBezTo>
                <a:cubicBezTo>
                  <a:pt x="10890" y="11530"/>
                  <a:pt x="11300" y="11427"/>
                  <a:pt x="11187" y="11187"/>
                </a:cubicBezTo>
                <a:cubicBezTo>
                  <a:pt x="11170" y="11187"/>
                  <a:pt x="11154" y="11187"/>
                  <a:pt x="11137" y="11187"/>
                </a:cubicBezTo>
                <a:cubicBezTo>
                  <a:pt x="11103" y="11345"/>
                  <a:pt x="11034" y="11502"/>
                  <a:pt x="11237" y="11485"/>
                </a:cubicBezTo>
                <a:cubicBezTo>
                  <a:pt x="11380" y="11148"/>
                  <a:pt x="11223" y="11324"/>
                  <a:pt x="11385" y="11410"/>
                </a:cubicBezTo>
                <a:cubicBezTo>
                  <a:pt x="11643" y="11547"/>
                  <a:pt x="11838" y="11262"/>
                  <a:pt x="11832" y="11038"/>
                </a:cubicBezTo>
                <a:cubicBezTo>
                  <a:pt x="11788" y="10818"/>
                  <a:pt x="11784" y="10762"/>
                  <a:pt x="11708" y="10641"/>
                </a:cubicBezTo>
                <a:cubicBezTo>
                  <a:pt x="11572" y="10820"/>
                  <a:pt x="11424" y="11384"/>
                  <a:pt x="11857" y="11485"/>
                </a:cubicBezTo>
                <a:cubicBezTo>
                  <a:pt x="11898" y="11460"/>
                  <a:pt x="11940" y="11435"/>
                  <a:pt x="11981" y="1141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86760" y="308916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20340" y="8582"/>
                </a:moveTo>
                <a:cubicBezTo>
                  <a:pt x="20340" y="8707"/>
                  <a:pt x="20274" y="8938"/>
                  <a:pt x="20414" y="9004"/>
                </a:cubicBezTo>
                <a:cubicBezTo>
                  <a:pt x="20637" y="9109"/>
                  <a:pt x="20675" y="8806"/>
                  <a:pt x="20687" y="8682"/>
                </a:cubicBezTo>
                <a:cubicBezTo>
                  <a:pt x="20687" y="8657"/>
                  <a:pt x="20687" y="8632"/>
                  <a:pt x="20687" y="8607"/>
                </a:cubicBezTo>
                <a:cubicBezTo>
                  <a:pt x="20740" y="8830"/>
                  <a:pt x="20807" y="9233"/>
                  <a:pt x="20613" y="9426"/>
                </a:cubicBezTo>
                <a:cubicBezTo>
                  <a:pt x="20422" y="9497"/>
                  <a:pt x="20363" y="9525"/>
                  <a:pt x="20241" y="942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1509840"/>
            <a:ext cx="1620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5974" y="4192"/>
                </a:moveTo>
                <a:cubicBezTo>
                  <a:pt x="16034" y="4381"/>
                  <a:pt x="16142" y="4533"/>
                  <a:pt x="16222" y="4713"/>
                </a:cubicBezTo>
                <a:cubicBezTo>
                  <a:pt x="16222" y="4721"/>
                  <a:pt x="16222" y="4730"/>
                  <a:pt x="16222" y="4738"/>
                </a:cubicBezTo>
              </a:path>
              <a:path w="447" h="671">
                <a:moveTo>
                  <a:pt x="16247" y="4192"/>
                </a:moveTo>
                <a:cubicBezTo>
                  <a:pt x="16107" y="4408"/>
                  <a:pt x="15929" y="4617"/>
                  <a:pt x="15801" y="4837"/>
                </a:cubicBezTo>
                <a:cubicBezTo>
                  <a:pt x="15801" y="4845"/>
                  <a:pt x="15801" y="4854"/>
                  <a:pt x="15801" y="486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6880" y="1758960"/>
            <a:ext cx="331920" cy="233280"/>
          </a:xfrm>
          <a:custGeom>
            <a:avLst/>
            <a:gdLst/>
            <a:ahLst/>
            <a:rect l="l" t="t" r="r" b="b"/>
            <a:pathLst>
              <a:path w="919" h="645">
                <a:moveTo>
                  <a:pt x="18231" y="4911"/>
                </a:moveTo>
                <a:cubicBezTo>
                  <a:pt x="18128" y="4885"/>
                  <a:pt x="18109" y="4853"/>
                  <a:pt x="18033" y="4986"/>
                </a:cubicBezTo>
                <a:cubicBezTo>
                  <a:pt x="17958" y="5117"/>
                  <a:pt x="17782" y="5525"/>
                  <a:pt x="18083" y="5531"/>
                </a:cubicBezTo>
                <a:cubicBezTo>
                  <a:pt x="18357" y="5537"/>
                  <a:pt x="18392" y="5314"/>
                  <a:pt x="18355" y="5110"/>
                </a:cubicBezTo>
                <a:cubicBezTo>
                  <a:pt x="18345" y="5053"/>
                  <a:pt x="18256" y="4931"/>
                  <a:pt x="18182" y="4961"/>
                </a:cubicBezTo>
                <a:cubicBezTo>
                  <a:pt x="18174" y="4969"/>
                  <a:pt x="18165" y="4978"/>
                  <a:pt x="18157" y="4986"/>
                </a:cubicBezTo>
              </a:path>
              <a:path w="919" h="645">
                <a:moveTo>
                  <a:pt x="18182" y="5234"/>
                </a:moveTo>
                <a:cubicBezTo>
                  <a:pt x="18188" y="5238"/>
                  <a:pt x="18403" y="5426"/>
                  <a:pt x="18430" y="5383"/>
                </a:cubicBezTo>
                <a:cubicBezTo>
                  <a:pt x="18438" y="5350"/>
                  <a:pt x="18447" y="5316"/>
                  <a:pt x="18455" y="5283"/>
                </a:cubicBezTo>
              </a:path>
              <a:path w="919" h="645">
                <a:moveTo>
                  <a:pt x="18529" y="4961"/>
                </a:moveTo>
                <a:cubicBezTo>
                  <a:pt x="18591" y="4915"/>
                  <a:pt x="18660" y="4911"/>
                  <a:pt x="18703" y="4986"/>
                </a:cubicBezTo>
                <a:cubicBezTo>
                  <a:pt x="18768" y="5099"/>
                  <a:pt x="18674" y="5177"/>
                  <a:pt x="18579" y="5209"/>
                </a:cubicBezTo>
                <a:cubicBezTo>
                  <a:pt x="18673" y="5162"/>
                  <a:pt x="18746" y="5184"/>
                  <a:pt x="18802" y="5283"/>
                </a:cubicBezTo>
                <a:cubicBezTo>
                  <a:pt x="18869" y="5403"/>
                  <a:pt x="18754" y="5442"/>
                  <a:pt x="18653" y="5457"/>
                </a:cubicBezTo>
                <a:cubicBezTo>
                  <a:pt x="18572" y="5469"/>
                  <a:pt x="18555" y="5458"/>
                  <a:pt x="18504" y="540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5320" y="5456160"/>
            <a:ext cx="731880" cy="500040"/>
          </a:xfrm>
          <a:custGeom>
            <a:avLst/>
            <a:gdLst/>
            <a:ahLst/>
            <a:rect l="l" t="t" r="r" b="b"/>
            <a:pathLst>
              <a:path w="2035" h="1390">
                <a:moveTo>
                  <a:pt x="1885" y="15180"/>
                </a:moveTo>
                <a:cubicBezTo>
                  <a:pt x="1920" y="15198"/>
                  <a:pt x="1949" y="15223"/>
                  <a:pt x="2034" y="15230"/>
                </a:cubicBezTo>
                <a:cubicBezTo>
                  <a:pt x="2174" y="15241"/>
                  <a:pt x="2317" y="15252"/>
                  <a:pt x="2456" y="15255"/>
                </a:cubicBezTo>
                <a:cubicBezTo>
                  <a:pt x="2609" y="15259"/>
                  <a:pt x="2755" y="15263"/>
                  <a:pt x="2902" y="15255"/>
                </a:cubicBezTo>
                <a:cubicBezTo>
                  <a:pt x="3059" y="15246"/>
                  <a:pt x="3193" y="15235"/>
                  <a:pt x="3349" y="15205"/>
                </a:cubicBezTo>
                <a:cubicBezTo>
                  <a:pt x="3462" y="15183"/>
                  <a:pt x="3556" y="15180"/>
                  <a:pt x="3671" y="15180"/>
                </a:cubicBezTo>
                <a:cubicBezTo>
                  <a:pt x="3833" y="15145"/>
                  <a:pt x="3742" y="15168"/>
                  <a:pt x="3621" y="15180"/>
                </a:cubicBezTo>
                <a:cubicBezTo>
                  <a:pt x="3277" y="15214"/>
                  <a:pt x="2945" y="15172"/>
                  <a:pt x="2604" y="15180"/>
                </a:cubicBezTo>
                <a:cubicBezTo>
                  <a:pt x="2355" y="15186"/>
                  <a:pt x="2073" y="15231"/>
                  <a:pt x="1836" y="15304"/>
                </a:cubicBezTo>
                <a:cubicBezTo>
                  <a:pt x="1819" y="15312"/>
                  <a:pt x="1803" y="15321"/>
                  <a:pt x="1786" y="15329"/>
                </a:cubicBezTo>
                <a:cubicBezTo>
                  <a:pt x="1686" y="15329"/>
                  <a:pt x="1886" y="15321"/>
                  <a:pt x="1984" y="15304"/>
                </a:cubicBezTo>
                <a:cubicBezTo>
                  <a:pt x="2461" y="15219"/>
                  <a:pt x="2914" y="15162"/>
                  <a:pt x="3398" y="15156"/>
                </a:cubicBezTo>
                <a:cubicBezTo>
                  <a:pt x="3675" y="15153"/>
                  <a:pt x="3497" y="15156"/>
                  <a:pt x="3572" y="15180"/>
                </a:cubicBezTo>
              </a:path>
              <a:path w="2035" h="1390">
                <a:moveTo>
                  <a:pt x="2629" y="15925"/>
                </a:moveTo>
                <a:cubicBezTo>
                  <a:pt x="2590" y="16041"/>
                  <a:pt x="2575" y="16124"/>
                  <a:pt x="2456" y="16173"/>
                </a:cubicBezTo>
                <a:cubicBezTo>
                  <a:pt x="2569" y="16173"/>
                  <a:pt x="2670" y="16190"/>
                  <a:pt x="2778" y="16222"/>
                </a:cubicBezTo>
                <a:cubicBezTo>
                  <a:pt x="2853" y="16247"/>
                  <a:pt x="2877" y="16256"/>
                  <a:pt x="2877" y="16173"/>
                </a:cubicBezTo>
              </a:path>
              <a:path w="2035" h="1390">
                <a:moveTo>
                  <a:pt x="2803" y="15801"/>
                </a:moveTo>
                <a:cubicBezTo>
                  <a:pt x="2829" y="16040"/>
                  <a:pt x="2845" y="16285"/>
                  <a:pt x="2877" y="16520"/>
                </a:cubicBezTo>
                <a:cubicBezTo>
                  <a:pt x="2877" y="16545"/>
                  <a:pt x="2877" y="16553"/>
                  <a:pt x="2877" y="16520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0840" y="5715000"/>
            <a:ext cx="91116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3746" y="16421"/>
                </a:moveTo>
                <a:cubicBezTo>
                  <a:pt x="3757" y="16615"/>
                  <a:pt x="3795" y="16798"/>
                  <a:pt x="3795" y="16991"/>
                </a:cubicBezTo>
                <a:cubicBezTo>
                  <a:pt x="3753" y="16801"/>
                  <a:pt x="3671" y="16607"/>
                  <a:pt x="3671" y="16396"/>
                </a:cubicBezTo>
                <a:cubicBezTo>
                  <a:pt x="3695" y="16205"/>
                  <a:pt x="3697" y="16145"/>
                  <a:pt x="3820" y="16073"/>
                </a:cubicBezTo>
                <a:cubicBezTo>
                  <a:pt x="3946" y="16175"/>
                  <a:pt x="4218" y="16459"/>
                  <a:pt x="3894" y="16570"/>
                </a:cubicBezTo>
                <a:cubicBezTo>
                  <a:pt x="3760" y="16570"/>
                  <a:pt x="3721" y="16580"/>
                  <a:pt x="3671" y="16495"/>
                </a:cubicBezTo>
              </a:path>
              <a:path w="2531" h="1117">
                <a:moveTo>
                  <a:pt x="4490" y="16173"/>
                </a:moveTo>
                <a:cubicBezTo>
                  <a:pt x="4498" y="16181"/>
                  <a:pt x="4506" y="16189"/>
                  <a:pt x="4514" y="16197"/>
                </a:cubicBezTo>
                <a:cubicBezTo>
                  <a:pt x="4490" y="16101"/>
                  <a:pt x="4412" y="15882"/>
                  <a:pt x="4291" y="16073"/>
                </a:cubicBezTo>
                <a:cubicBezTo>
                  <a:pt x="4171" y="16261"/>
                  <a:pt x="4195" y="16376"/>
                  <a:pt x="4266" y="16545"/>
                </a:cubicBezTo>
                <a:cubicBezTo>
                  <a:pt x="4380" y="16446"/>
                  <a:pt x="4410" y="16408"/>
                  <a:pt x="4440" y="16247"/>
                </a:cubicBezTo>
                <a:cubicBezTo>
                  <a:pt x="4458" y="16317"/>
                  <a:pt x="4553" y="16587"/>
                  <a:pt x="4688" y="16520"/>
                </a:cubicBezTo>
                <a:cubicBezTo>
                  <a:pt x="4808" y="16460"/>
                  <a:pt x="4681" y="16063"/>
                  <a:pt x="4762" y="16247"/>
                </a:cubicBezTo>
                <a:cubicBezTo>
                  <a:pt x="4792" y="16315"/>
                  <a:pt x="4856" y="16470"/>
                  <a:pt x="4862" y="16470"/>
                </a:cubicBezTo>
                <a:cubicBezTo>
                  <a:pt x="4822" y="16240"/>
                  <a:pt x="4752" y="16220"/>
                  <a:pt x="4961" y="16148"/>
                </a:cubicBezTo>
                <a:cubicBezTo>
                  <a:pt x="5002" y="16131"/>
                  <a:pt x="5044" y="16115"/>
                  <a:pt x="5085" y="16098"/>
                </a:cubicBezTo>
              </a:path>
              <a:path w="2531" h="1117">
                <a:moveTo>
                  <a:pt x="5283" y="15875"/>
                </a:moveTo>
                <a:cubicBezTo>
                  <a:pt x="5311" y="15974"/>
                  <a:pt x="5346" y="16403"/>
                  <a:pt x="5432" y="16470"/>
                </a:cubicBezTo>
                <a:cubicBezTo>
                  <a:pt x="5500" y="16470"/>
                  <a:pt x="5530" y="16457"/>
                  <a:pt x="5556" y="16396"/>
                </a:cubicBezTo>
              </a:path>
              <a:path w="2531" h="1117">
                <a:moveTo>
                  <a:pt x="5110" y="16123"/>
                </a:moveTo>
                <a:cubicBezTo>
                  <a:pt x="5304" y="16087"/>
                  <a:pt x="5644" y="15962"/>
                  <a:pt x="5829" y="15974"/>
                </a:cubicBezTo>
                <a:cubicBezTo>
                  <a:pt x="5837" y="15982"/>
                  <a:pt x="5846" y="15991"/>
                  <a:pt x="5854" y="15999"/>
                </a:cubicBezTo>
                <a:cubicBezTo>
                  <a:pt x="5766" y="16131"/>
                  <a:pt x="5680" y="16144"/>
                  <a:pt x="5829" y="16173"/>
                </a:cubicBezTo>
                <a:cubicBezTo>
                  <a:pt x="5949" y="16196"/>
                  <a:pt x="6489" y="16369"/>
                  <a:pt x="6077" y="16520"/>
                </a:cubicBezTo>
                <a:cubicBezTo>
                  <a:pt x="6003" y="16528"/>
                  <a:pt x="5928" y="16537"/>
                  <a:pt x="5854" y="1654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59800" y="214200"/>
            <a:ext cx="312480" cy="24156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22374" y="769"/>
                </a:moveTo>
                <a:cubicBezTo>
                  <a:pt x="22374" y="922"/>
                  <a:pt x="22374" y="1067"/>
                  <a:pt x="22399" y="1215"/>
                </a:cubicBezTo>
                <a:cubicBezTo>
                  <a:pt x="22408" y="1266"/>
                  <a:pt x="22399" y="1273"/>
                  <a:pt x="22399" y="1215"/>
                </a:cubicBezTo>
                <a:cubicBezTo>
                  <a:pt x="22399" y="1099"/>
                  <a:pt x="22399" y="984"/>
                  <a:pt x="22399" y="868"/>
                </a:cubicBezTo>
                <a:cubicBezTo>
                  <a:pt x="22395" y="848"/>
                  <a:pt x="22337" y="719"/>
                  <a:pt x="22399" y="719"/>
                </a:cubicBezTo>
                <a:cubicBezTo>
                  <a:pt x="22560" y="719"/>
                  <a:pt x="22385" y="1035"/>
                  <a:pt x="22423" y="1191"/>
                </a:cubicBezTo>
                <a:cubicBezTo>
                  <a:pt x="22443" y="1273"/>
                  <a:pt x="22381" y="1077"/>
                  <a:pt x="22374" y="992"/>
                </a:cubicBezTo>
                <a:cubicBezTo>
                  <a:pt x="22370" y="952"/>
                  <a:pt x="22361" y="651"/>
                  <a:pt x="22374" y="719"/>
                </a:cubicBezTo>
                <a:cubicBezTo>
                  <a:pt x="22404" y="878"/>
                  <a:pt x="22414" y="1053"/>
                  <a:pt x="22423" y="1215"/>
                </a:cubicBezTo>
                <a:cubicBezTo>
                  <a:pt x="22396" y="1064"/>
                  <a:pt x="22374" y="923"/>
                  <a:pt x="22374" y="769"/>
                </a:cubicBezTo>
                <a:cubicBezTo>
                  <a:pt x="22374" y="761"/>
                  <a:pt x="22374" y="752"/>
                  <a:pt x="22374" y="744"/>
                </a:cubicBezTo>
              </a:path>
              <a:path w="869" h="671">
                <a:moveTo>
                  <a:pt x="21878" y="645"/>
                </a:moveTo>
                <a:cubicBezTo>
                  <a:pt x="21858" y="605"/>
                  <a:pt x="21786" y="560"/>
                  <a:pt x="21729" y="595"/>
                </a:cubicBezTo>
                <a:cubicBezTo>
                  <a:pt x="21640" y="651"/>
                  <a:pt x="21555" y="890"/>
                  <a:pt x="21555" y="992"/>
                </a:cubicBezTo>
                <a:cubicBezTo>
                  <a:pt x="21555" y="1116"/>
                  <a:pt x="21704" y="1176"/>
                  <a:pt x="21803" y="1166"/>
                </a:cubicBezTo>
                <a:cubicBezTo>
                  <a:pt x="21889" y="1157"/>
                  <a:pt x="22014" y="1087"/>
                  <a:pt x="22051" y="1017"/>
                </a:cubicBezTo>
                <a:cubicBezTo>
                  <a:pt x="22113" y="899"/>
                  <a:pt x="22166" y="797"/>
                  <a:pt x="22051" y="719"/>
                </a:cubicBezTo>
                <a:cubicBezTo>
                  <a:pt x="21988" y="676"/>
                  <a:pt x="21950" y="624"/>
                  <a:pt x="21878" y="620"/>
                </a:cubicBezTo>
                <a:cubicBezTo>
                  <a:pt x="21799" y="615"/>
                  <a:pt x="21806" y="603"/>
                  <a:pt x="21828" y="670"/>
                </a:cubicBezTo>
              </a:path>
              <a:path w="869" h="671">
                <a:moveTo>
                  <a:pt x="21828" y="918"/>
                </a:moveTo>
                <a:cubicBezTo>
                  <a:pt x="21853" y="842"/>
                  <a:pt x="21948" y="964"/>
                  <a:pt x="21977" y="992"/>
                </a:cubicBezTo>
                <a:cubicBezTo>
                  <a:pt x="22027" y="1041"/>
                  <a:pt x="22058" y="1158"/>
                  <a:pt x="22126" y="1141"/>
                </a:cubicBezTo>
                <a:cubicBezTo>
                  <a:pt x="22126" y="1133"/>
                  <a:pt x="22126" y="1124"/>
                  <a:pt x="22126" y="111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56240" y="187200"/>
            <a:ext cx="374760" cy="25884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18256" y="521"/>
                </a:moveTo>
                <a:cubicBezTo>
                  <a:pt x="18133" y="521"/>
                  <a:pt x="18042" y="611"/>
                  <a:pt x="17983" y="719"/>
                </a:cubicBezTo>
                <a:cubicBezTo>
                  <a:pt x="17917" y="840"/>
                  <a:pt x="17873" y="1177"/>
                  <a:pt x="18058" y="1240"/>
                </a:cubicBezTo>
                <a:cubicBezTo>
                  <a:pt x="18299" y="1322"/>
                  <a:pt x="18450" y="1039"/>
                  <a:pt x="18455" y="843"/>
                </a:cubicBezTo>
                <a:cubicBezTo>
                  <a:pt x="18458" y="725"/>
                  <a:pt x="18269" y="546"/>
                  <a:pt x="18157" y="521"/>
                </a:cubicBezTo>
                <a:cubicBezTo>
                  <a:pt x="18132" y="546"/>
                  <a:pt x="18124" y="554"/>
                  <a:pt x="18107" y="571"/>
                </a:cubicBezTo>
              </a:path>
              <a:path w="1043" h="720">
                <a:moveTo>
                  <a:pt x="18231" y="843"/>
                </a:moveTo>
                <a:cubicBezTo>
                  <a:pt x="18309" y="903"/>
                  <a:pt x="18433" y="975"/>
                  <a:pt x="18479" y="1067"/>
                </a:cubicBezTo>
                <a:cubicBezTo>
                  <a:pt x="18497" y="1102"/>
                  <a:pt x="18578" y="822"/>
                  <a:pt x="18579" y="819"/>
                </a:cubicBezTo>
              </a:path>
              <a:path w="1043" h="720">
                <a:moveTo>
                  <a:pt x="18604" y="546"/>
                </a:moveTo>
                <a:cubicBezTo>
                  <a:pt x="18719" y="546"/>
                  <a:pt x="18755" y="559"/>
                  <a:pt x="18802" y="670"/>
                </a:cubicBezTo>
                <a:cubicBezTo>
                  <a:pt x="18873" y="836"/>
                  <a:pt x="18733" y="897"/>
                  <a:pt x="18653" y="1017"/>
                </a:cubicBezTo>
                <a:cubicBezTo>
                  <a:pt x="18653" y="1025"/>
                  <a:pt x="18653" y="1034"/>
                  <a:pt x="18653" y="1042"/>
                </a:cubicBezTo>
                <a:cubicBezTo>
                  <a:pt x="18752" y="1065"/>
                  <a:pt x="18862" y="1070"/>
                  <a:pt x="18951" y="1091"/>
                </a:cubicBezTo>
                <a:cubicBezTo>
                  <a:pt x="18959" y="1091"/>
                  <a:pt x="18968" y="1091"/>
                  <a:pt x="18976" y="109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58080" y="1751040"/>
            <a:ext cx="384120" cy="2221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22076" y="4961"/>
                </a:moveTo>
                <a:cubicBezTo>
                  <a:pt x="22069" y="4940"/>
                  <a:pt x="21979" y="4878"/>
                  <a:pt x="21952" y="4911"/>
                </a:cubicBezTo>
                <a:cubicBezTo>
                  <a:pt x="21835" y="5053"/>
                  <a:pt x="21760" y="5254"/>
                  <a:pt x="21903" y="5407"/>
                </a:cubicBezTo>
                <a:cubicBezTo>
                  <a:pt x="22026" y="5538"/>
                  <a:pt x="22229" y="5484"/>
                  <a:pt x="22299" y="5333"/>
                </a:cubicBezTo>
                <a:cubicBezTo>
                  <a:pt x="22369" y="5181"/>
                  <a:pt x="22290" y="5098"/>
                  <a:pt x="22151" y="5035"/>
                </a:cubicBezTo>
                <a:cubicBezTo>
                  <a:pt x="22095" y="5010"/>
                  <a:pt x="22056" y="5011"/>
                  <a:pt x="22002" y="5011"/>
                </a:cubicBezTo>
              </a:path>
              <a:path w="1068" h="621">
                <a:moveTo>
                  <a:pt x="22051" y="5234"/>
                </a:moveTo>
                <a:cubicBezTo>
                  <a:pt x="22144" y="5262"/>
                  <a:pt x="22224" y="5329"/>
                  <a:pt x="22324" y="5358"/>
                </a:cubicBezTo>
                <a:cubicBezTo>
                  <a:pt x="22364" y="5358"/>
                  <a:pt x="22383" y="5347"/>
                  <a:pt x="22399" y="5308"/>
                </a:cubicBezTo>
              </a:path>
              <a:path w="1068" h="621">
                <a:moveTo>
                  <a:pt x="22547" y="4986"/>
                </a:moveTo>
                <a:cubicBezTo>
                  <a:pt x="22547" y="5025"/>
                  <a:pt x="22522" y="5140"/>
                  <a:pt x="22572" y="5159"/>
                </a:cubicBezTo>
                <a:cubicBezTo>
                  <a:pt x="22629" y="5181"/>
                  <a:pt x="22734" y="5159"/>
                  <a:pt x="22796" y="5159"/>
                </a:cubicBezTo>
              </a:path>
              <a:path w="1068" h="621">
                <a:moveTo>
                  <a:pt x="22771" y="4862"/>
                </a:moveTo>
                <a:cubicBezTo>
                  <a:pt x="22771" y="4980"/>
                  <a:pt x="22798" y="5093"/>
                  <a:pt x="22820" y="5209"/>
                </a:cubicBezTo>
                <a:cubicBezTo>
                  <a:pt x="22839" y="5306"/>
                  <a:pt x="22859" y="5391"/>
                  <a:pt x="22895" y="5482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0840" y="3714840"/>
            <a:ext cx="10800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6867" y="10319"/>
                </a:moveTo>
                <a:cubicBezTo>
                  <a:pt x="16703" y="10524"/>
                  <a:pt x="16592" y="10628"/>
                  <a:pt x="16793" y="10815"/>
                </a:cubicBezTo>
                <a:cubicBezTo>
                  <a:pt x="16994" y="10637"/>
                  <a:pt x="17016" y="10552"/>
                  <a:pt x="16793" y="10393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32240" y="3705120"/>
            <a:ext cx="312840" cy="26028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4536" y="10418"/>
                </a:moveTo>
                <a:cubicBezTo>
                  <a:pt x="14551" y="10469"/>
                  <a:pt x="14573" y="10783"/>
                  <a:pt x="14660" y="10740"/>
                </a:cubicBezTo>
                <a:cubicBezTo>
                  <a:pt x="14778" y="10681"/>
                  <a:pt x="14771" y="10549"/>
                  <a:pt x="14784" y="10443"/>
                </a:cubicBezTo>
                <a:cubicBezTo>
                  <a:pt x="14811" y="10539"/>
                  <a:pt x="14867" y="10717"/>
                  <a:pt x="15007" y="10666"/>
                </a:cubicBezTo>
                <a:cubicBezTo>
                  <a:pt x="15131" y="10621"/>
                  <a:pt x="15096" y="10480"/>
                  <a:pt x="15081" y="10393"/>
                </a:cubicBezTo>
                <a:cubicBezTo>
                  <a:pt x="15109" y="10585"/>
                  <a:pt x="15180" y="10776"/>
                  <a:pt x="15230" y="10964"/>
                </a:cubicBezTo>
                <a:cubicBezTo>
                  <a:pt x="15230" y="11023"/>
                  <a:pt x="15227" y="11030"/>
                  <a:pt x="15205" y="10939"/>
                </a:cubicBezTo>
                <a:cubicBezTo>
                  <a:pt x="15175" y="10698"/>
                  <a:pt x="15132" y="10516"/>
                  <a:pt x="15230" y="10294"/>
                </a:cubicBezTo>
                <a:cubicBezTo>
                  <a:pt x="15371" y="10398"/>
                  <a:pt x="15504" y="10547"/>
                  <a:pt x="15255" y="10641"/>
                </a:cubicBezTo>
                <a:cubicBezTo>
                  <a:pt x="15175" y="10641"/>
                  <a:pt x="15153" y="10637"/>
                  <a:pt x="15230" y="1056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1000" y="3616200"/>
            <a:ext cx="1440" cy="401760"/>
          </a:xfrm>
          <a:custGeom>
            <a:avLst/>
            <a:gdLst/>
            <a:ahLst/>
            <a:rect l="l" t="t" r="r" b="b"/>
            <a:pathLst>
              <a:path w="1" h="1117">
                <a:moveTo>
                  <a:pt x="15726" y="10046"/>
                </a:moveTo>
                <a:cubicBezTo>
                  <a:pt x="15726" y="10418"/>
                  <a:pt x="15726" y="10790"/>
                  <a:pt x="15726" y="1116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23000" y="366084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16520" y="10616"/>
                </a:moveTo>
                <a:cubicBezTo>
                  <a:pt x="16498" y="10508"/>
                  <a:pt x="16402" y="10397"/>
                  <a:pt x="16272" y="10492"/>
                </a:cubicBezTo>
                <a:cubicBezTo>
                  <a:pt x="16099" y="10619"/>
                  <a:pt x="16173" y="10740"/>
                  <a:pt x="16247" y="10864"/>
                </a:cubicBezTo>
                <a:cubicBezTo>
                  <a:pt x="16434" y="10811"/>
                  <a:pt x="16498" y="10783"/>
                  <a:pt x="16520" y="10616"/>
                </a:cubicBezTo>
              </a:path>
              <a:path w="398" h="695">
                <a:moveTo>
                  <a:pt x="16421" y="10170"/>
                </a:moveTo>
                <a:cubicBezTo>
                  <a:pt x="16432" y="10272"/>
                  <a:pt x="16451" y="10752"/>
                  <a:pt x="16520" y="10815"/>
                </a:cubicBezTo>
                <a:cubicBezTo>
                  <a:pt x="16537" y="10798"/>
                  <a:pt x="16553" y="10782"/>
                  <a:pt x="16570" y="1076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80120" y="3705120"/>
            <a:ext cx="480960" cy="16992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7165" y="10368"/>
                </a:moveTo>
                <a:cubicBezTo>
                  <a:pt x="17165" y="10471"/>
                  <a:pt x="17143" y="10672"/>
                  <a:pt x="17239" y="10740"/>
                </a:cubicBezTo>
                <a:cubicBezTo>
                  <a:pt x="17401" y="10854"/>
                  <a:pt x="17443" y="10530"/>
                  <a:pt x="17462" y="10468"/>
                </a:cubicBezTo>
                <a:cubicBezTo>
                  <a:pt x="17366" y="10245"/>
                  <a:pt x="17483" y="10619"/>
                  <a:pt x="17537" y="10666"/>
                </a:cubicBezTo>
                <a:cubicBezTo>
                  <a:pt x="17732" y="10836"/>
                  <a:pt x="17914" y="10597"/>
                  <a:pt x="17735" y="10418"/>
                </a:cubicBezTo>
                <a:cubicBezTo>
                  <a:pt x="17629" y="10375"/>
                  <a:pt x="17608" y="10359"/>
                  <a:pt x="17537" y="10368"/>
                </a:cubicBezTo>
              </a:path>
              <a:path w="1340" h="472">
                <a:moveTo>
                  <a:pt x="18033" y="10418"/>
                </a:moveTo>
                <a:cubicBezTo>
                  <a:pt x="18058" y="10542"/>
                  <a:pt x="18066" y="10583"/>
                  <a:pt x="18083" y="10666"/>
                </a:cubicBezTo>
                <a:cubicBezTo>
                  <a:pt x="18064" y="10537"/>
                  <a:pt x="18025" y="10407"/>
                  <a:pt x="18157" y="10319"/>
                </a:cubicBezTo>
                <a:cubicBezTo>
                  <a:pt x="18422" y="10142"/>
                  <a:pt x="18481" y="10565"/>
                  <a:pt x="18504" y="10716"/>
                </a:cubicBezTo>
                <a:cubicBezTo>
                  <a:pt x="18504" y="10732"/>
                  <a:pt x="18504" y="10749"/>
                  <a:pt x="18504" y="10765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3160" y="1465200"/>
            <a:ext cx="14292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8479" y="4068"/>
                </a:moveTo>
                <a:cubicBezTo>
                  <a:pt x="18583" y="4068"/>
                  <a:pt x="18675" y="4079"/>
                  <a:pt x="18777" y="4093"/>
                </a:cubicBezTo>
                <a:cubicBezTo>
                  <a:pt x="18785" y="4093"/>
                  <a:pt x="18794" y="4093"/>
                  <a:pt x="18802" y="4093"/>
                </a:cubicBezTo>
                <a:cubicBezTo>
                  <a:pt x="18774" y="4093"/>
                  <a:pt x="18442" y="4116"/>
                  <a:pt x="18579" y="4093"/>
                </a:cubicBezTo>
                <a:cubicBezTo>
                  <a:pt x="18683" y="4076"/>
                  <a:pt x="18771" y="4068"/>
                  <a:pt x="18876" y="4068"/>
                </a:cubicBezTo>
                <a:cubicBezTo>
                  <a:pt x="18775" y="4068"/>
                  <a:pt x="18677" y="4073"/>
                  <a:pt x="18579" y="4093"/>
                </a:cubicBezTo>
                <a:cubicBezTo>
                  <a:pt x="18505" y="4108"/>
                  <a:pt x="18727" y="4074"/>
                  <a:pt x="18802" y="4068"/>
                </a:cubicBezTo>
                <a:cubicBezTo>
                  <a:pt x="18810" y="4068"/>
                  <a:pt x="18819" y="4068"/>
                  <a:pt x="18827" y="4068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49960" y="2081160"/>
            <a:ext cx="277920" cy="419040"/>
          </a:xfrm>
          <a:custGeom>
            <a:avLst/>
            <a:gdLst/>
            <a:ahLst/>
            <a:rect l="l" t="t" r="r" b="b"/>
            <a:pathLst>
              <a:path w="770" h="1167">
                <a:moveTo>
                  <a:pt x="17537" y="5779"/>
                </a:moveTo>
                <a:cubicBezTo>
                  <a:pt x="17450" y="5975"/>
                  <a:pt x="17340" y="6180"/>
                  <a:pt x="17363" y="6400"/>
                </a:cubicBezTo>
                <a:cubicBezTo>
                  <a:pt x="17383" y="6593"/>
                  <a:pt x="17496" y="6714"/>
                  <a:pt x="17587" y="6871"/>
                </a:cubicBezTo>
                <a:cubicBezTo>
                  <a:pt x="17616" y="6920"/>
                  <a:pt x="17622" y="6933"/>
                  <a:pt x="17661" y="6945"/>
                </a:cubicBezTo>
              </a:path>
              <a:path w="770" h="1167">
                <a:moveTo>
                  <a:pt x="17686" y="6400"/>
                </a:moveTo>
                <a:cubicBezTo>
                  <a:pt x="17771" y="6400"/>
                  <a:pt x="18107" y="6353"/>
                  <a:pt x="18132" y="642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2089080"/>
            <a:ext cx="366480" cy="447840"/>
          </a:xfrm>
          <a:custGeom>
            <a:avLst/>
            <a:gdLst/>
            <a:ahLst/>
            <a:rect l="l" t="t" r="r" b="b"/>
            <a:pathLst>
              <a:path w="1018" h="1242">
                <a:moveTo>
                  <a:pt x="18653" y="6623"/>
                </a:moveTo>
                <a:cubicBezTo>
                  <a:pt x="18653" y="6726"/>
                  <a:pt x="18689" y="6815"/>
                  <a:pt x="18678" y="6921"/>
                </a:cubicBezTo>
                <a:cubicBezTo>
                  <a:pt x="18669" y="7005"/>
                  <a:pt x="18666" y="7029"/>
                  <a:pt x="18604" y="7045"/>
                </a:cubicBezTo>
              </a:path>
              <a:path w="1018" h="1242">
                <a:moveTo>
                  <a:pt x="18951" y="6300"/>
                </a:moveTo>
                <a:cubicBezTo>
                  <a:pt x="18910" y="6300"/>
                  <a:pt x="18815" y="6306"/>
                  <a:pt x="18852" y="6325"/>
                </a:cubicBezTo>
                <a:cubicBezTo>
                  <a:pt x="18910" y="6355"/>
                  <a:pt x="19170" y="6279"/>
                  <a:pt x="19248" y="6276"/>
                </a:cubicBezTo>
                <a:cubicBezTo>
                  <a:pt x="19273" y="6276"/>
                  <a:pt x="19281" y="6276"/>
                  <a:pt x="19298" y="6276"/>
                </a:cubicBezTo>
              </a:path>
              <a:path w="1018" h="1242">
                <a:moveTo>
                  <a:pt x="19323" y="5804"/>
                </a:moveTo>
                <a:cubicBezTo>
                  <a:pt x="19500" y="5893"/>
                  <a:pt x="19601" y="6130"/>
                  <a:pt x="19621" y="6325"/>
                </a:cubicBezTo>
                <a:cubicBezTo>
                  <a:pt x="19642" y="6534"/>
                  <a:pt x="19545" y="6841"/>
                  <a:pt x="19372" y="6970"/>
                </a:cubicBezTo>
                <a:cubicBezTo>
                  <a:pt x="19311" y="7015"/>
                  <a:pt x="19261" y="7047"/>
                  <a:pt x="19248" y="702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04080" y="2125800"/>
            <a:ext cx="268200" cy="419040"/>
          </a:xfrm>
          <a:custGeom>
            <a:avLst/>
            <a:gdLst/>
            <a:ahLst/>
            <a:rect l="l" t="t" r="r" b="b"/>
            <a:pathLst>
              <a:path w="745" h="1166">
                <a:moveTo>
                  <a:pt x="21977" y="5904"/>
                </a:moveTo>
                <a:cubicBezTo>
                  <a:pt x="21821" y="6034"/>
                  <a:pt x="21709" y="6338"/>
                  <a:pt x="21679" y="6548"/>
                </a:cubicBezTo>
                <a:cubicBezTo>
                  <a:pt x="21643" y="6800"/>
                  <a:pt x="21686" y="6896"/>
                  <a:pt x="21853" y="7045"/>
                </a:cubicBezTo>
                <a:cubicBezTo>
                  <a:pt x="21904" y="7091"/>
                  <a:pt x="21898" y="7066"/>
                  <a:pt x="21952" y="7020"/>
                </a:cubicBezTo>
              </a:path>
              <a:path w="745" h="1166">
                <a:moveTo>
                  <a:pt x="22225" y="6251"/>
                </a:moveTo>
                <a:cubicBezTo>
                  <a:pt x="22225" y="6234"/>
                  <a:pt x="22225" y="6218"/>
                  <a:pt x="22225" y="6201"/>
                </a:cubicBezTo>
                <a:cubicBezTo>
                  <a:pt x="22225" y="6156"/>
                  <a:pt x="22178" y="6529"/>
                  <a:pt x="22175" y="6548"/>
                </a:cubicBezTo>
                <a:cubicBezTo>
                  <a:pt x="22161" y="6639"/>
                  <a:pt x="22182" y="6703"/>
                  <a:pt x="22126" y="6722"/>
                </a:cubicBezTo>
              </a:path>
              <a:path w="745" h="1166">
                <a:moveTo>
                  <a:pt x="21977" y="6424"/>
                </a:moveTo>
                <a:cubicBezTo>
                  <a:pt x="22083" y="6403"/>
                  <a:pt x="22325" y="6312"/>
                  <a:pt x="22423" y="6375"/>
                </a:cubicBezTo>
                <a:cubicBezTo>
                  <a:pt x="22423" y="6383"/>
                  <a:pt x="22423" y="6392"/>
                  <a:pt x="22423" y="64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77120" y="2116080"/>
            <a:ext cx="2779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23589" y="5904"/>
                </a:moveTo>
                <a:cubicBezTo>
                  <a:pt x="23624" y="5798"/>
                  <a:pt x="23716" y="6017"/>
                  <a:pt x="23738" y="6127"/>
                </a:cubicBezTo>
                <a:cubicBezTo>
                  <a:pt x="23798" y="6422"/>
                  <a:pt x="23699" y="6586"/>
                  <a:pt x="23564" y="6821"/>
                </a:cubicBezTo>
                <a:cubicBezTo>
                  <a:pt x="23545" y="6855"/>
                  <a:pt x="23521" y="6886"/>
                  <a:pt x="23490" y="6896"/>
                </a:cubicBezTo>
              </a:path>
              <a:path w="770" h="1018">
                <a:moveTo>
                  <a:pt x="23019" y="6524"/>
                </a:moveTo>
                <a:cubicBezTo>
                  <a:pt x="22999" y="6464"/>
                  <a:pt x="23269" y="6499"/>
                  <a:pt x="23341" y="6499"/>
                </a:cubicBezTo>
                <a:cubicBezTo>
                  <a:pt x="23415" y="6499"/>
                  <a:pt x="23424" y="6499"/>
                  <a:pt x="23465" y="6499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’s an ordered pair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2429640" y="2209680"/>
            <a:ext cx="374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Comic Sans MS"/>
              </a:rPr>
              <a:t>ordered pair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0440" y="30481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x-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240" y="4876920"/>
            <a:ext cx="258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y-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89480" y="3657600"/>
            <a:ext cx="163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ahoma"/>
              </a:rPr>
              <a:t>(x,y)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429000"/>
            <a:ext cx="30492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4571640" y="4647960"/>
            <a:ext cx="22860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82800" y="4071960"/>
            <a:ext cx="1125360" cy="214200"/>
          </a:xfrm>
          <a:custGeom>
            <a:avLst/>
            <a:gdLst/>
            <a:ahLst/>
            <a:rect l="l" t="t" r="r" b="b"/>
            <a:pathLst>
              <a:path w="3126" h="596">
                <a:moveTo>
                  <a:pt x="2729" y="11410"/>
                </a:moveTo>
                <a:cubicBezTo>
                  <a:pt x="2745" y="11410"/>
                  <a:pt x="2762" y="11410"/>
                  <a:pt x="2778" y="11410"/>
                </a:cubicBezTo>
              </a:path>
              <a:path w="3126" h="596">
                <a:moveTo>
                  <a:pt x="2778" y="11410"/>
                </a:moveTo>
                <a:lnTo>
                  <a:pt x="2778" y="11410"/>
                </a:lnTo>
              </a:path>
              <a:path w="3126" h="596">
                <a:moveTo>
                  <a:pt x="5333" y="11609"/>
                </a:moveTo>
                <a:cubicBezTo>
                  <a:pt x="5351" y="11716"/>
                  <a:pt x="5359" y="11724"/>
                  <a:pt x="5358" y="11782"/>
                </a:cubicBezTo>
              </a:path>
              <a:path w="3126" h="596">
                <a:moveTo>
                  <a:pt x="5209" y="11311"/>
                </a:moveTo>
                <a:cubicBezTo>
                  <a:pt x="5217" y="11311"/>
                  <a:pt x="5226" y="11311"/>
                  <a:pt x="5234" y="11311"/>
                </a:cubicBezTo>
              </a:path>
              <a:path w="3126" h="596">
                <a:moveTo>
                  <a:pt x="5234" y="11311"/>
                </a:moveTo>
                <a:lnTo>
                  <a:pt x="5234" y="11311"/>
                </a:lnTo>
              </a:path>
              <a:path w="3126" h="596">
                <a:moveTo>
                  <a:pt x="5854" y="11485"/>
                </a:moveTo>
                <a:cubicBezTo>
                  <a:pt x="5713" y="11379"/>
                  <a:pt x="5608" y="11504"/>
                  <a:pt x="5531" y="11658"/>
                </a:cubicBezTo>
                <a:cubicBezTo>
                  <a:pt x="5319" y="12084"/>
                  <a:pt x="5736" y="11745"/>
                  <a:pt x="5829" y="11584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240" y="3633840"/>
            <a:ext cx="776520" cy="822240"/>
          </a:xfrm>
          <a:custGeom>
            <a:avLst/>
            <a:gdLst/>
            <a:ahLst/>
            <a:rect l="l" t="t" r="r" b="b"/>
            <a:pathLst>
              <a:path w="2159" h="2283">
                <a:moveTo>
                  <a:pt x="3497" y="10120"/>
                </a:moveTo>
                <a:cubicBezTo>
                  <a:pt x="3497" y="10003"/>
                  <a:pt x="3469" y="10303"/>
                  <a:pt x="3448" y="10418"/>
                </a:cubicBezTo>
                <a:cubicBezTo>
                  <a:pt x="3424" y="10550"/>
                  <a:pt x="3494" y="10729"/>
                  <a:pt x="3448" y="10616"/>
                </a:cubicBezTo>
                <a:cubicBezTo>
                  <a:pt x="3440" y="10608"/>
                  <a:pt x="3431" y="10600"/>
                  <a:pt x="3423" y="10592"/>
                </a:cubicBezTo>
              </a:path>
              <a:path w="2159" h="2283">
                <a:moveTo>
                  <a:pt x="3101" y="10368"/>
                </a:moveTo>
                <a:cubicBezTo>
                  <a:pt x="3222" y="10455"/>
                  <a:pt x="3338" y="10607"/>
                  <a:pt x="3473" y="10666"/>
                </a:cubicBezTo>
                <a:cubicBezTo>
                  <a:pt x="3571" y="10709"/>
                  <a:pt x="3733" y="10472"/>
                  <a:pt x="3795" y="10418"/>
                </a:cubicBezTo>
              </a:path>
              <a:path w="2159" h="2283">
                <a:moveTo>
                  <a:pt x="2431" y="11261"/>
                </a:moveTo>
                <a:cubicBezTo>
                  <a:pt x="2350" y="11353"/>
                  <a:pt x="2292" y="11426"/>
                  <a:pt x="2232" y="11534"/>
                </a:cubicBezTo>
                <a:cubicBezTo>
                  <a:pt x="2412" y="11568"/>
                  <a:pt x="2643" y="11636"/>
                  <a:pt x="2580" y="11881"/>
                </a:cubicBezTo>
                <a:cubicBezTo>
                  <a:pt x="2521" y="12110"/>
                  <a:pt x="2265" y="11943"/>
                  <a:pt x="2208" y="11857"/>
                </a:cubicBezTo>
              </a:path>
              <a:path w="2159" h="2283">
                <a:moveTo>
                  <a:pt x="2803" y="11584"/>
                </a:moveTo>
                <a:cubicBezTo>
                  <a:pt x="2818" y="11701"/>
                  <a:pt x="2828" y="11787"/>
                  <a:pt x="2828" y="11906"/>
                </a:cubicBezTo>
              </a:path>
              <a:path w="2159" h="2283">
                <a:moveTo>
                  <a:pt x="3473" y="11584"/>
                </a:moveTo>
                <a:cubicBezTo>
                  <a:pt x="3445" y="11487"/>
                  <a:pt x="3355" y="11311"/>
                  <a:pt x="3225" y="11460"/>
                </a:cubicBezTo>
                <a:cubicBezTo>
                  <a:pt x="3059" y="11649"/>
                  <a:pt x="3066" y="11776"/>
                  <a:pt x="3150" y="11956"/>
                </a:cubicBezTo>
                <a:cubicBezTo>
                  <a:pt x="3394" y="11672"/>
                  <a:pt x="3387" y="11511"/>
                  <a:pt x="3274" y="11162"/>
                </a:cubicBezTo>
                <a:cubicBezTo>
                  <a:pt x="3274" y="11154"/>
                  <a:pt x="3274" y="11145"/>
                  <a:pt x="3274" y="11137"/>
                </a:cubicBezTo>
                <a:cubicBezTo>
                  <a:pt x="3423" y="11397"/>
                  <a:pt x="3387" y="11651"/>
                  <a:pt x="3497" y="11906"/>
                </a:cubicBezTo>
                <a:cubicBezTo>
                  <a:pt x="3505" y="11890"/>
                  <a:pt x="3514" y="11873"/>
                  <a:pt x="3522" y="11857"/>
                </a:cubicBezTo>
              </a:path>
              <a:path w="2159" h="2283">
                <a:moveTo>
                  <a:pt x="3621" y="11658"/>
                </a:moveTo>
                <a:cubicBezTo>
                  <a:pt x="3685" y="11658"/>
                  <a:pt x="3835" y="11714"/>
                  <a:pt x="3870" y="11708"/>
                </a:cubicBezTo>
                <a:cubicBezTo>
                  <a:pt x="3870" y="11680"/>
                  <a:pt x="3868" y="11669"/>
                  <a:pt x="3845" y="11658"/>
                </a:cubicBezTo>
                <a:cubicBezTo>
                  <a:pt x="3713" y="11567"/>
                  <a:pt x="3495" y="11581"/>
                  <a:pt x="3522" y="11832"/>
                </a:cubicBezTo>
                <a:cubicBezTo>
                  <a:pt x="3545" y="12046"/>
                  <a:pt x="3728" y="11979"/>
                  <a:pt x="3845" y="11956"/>
                </a:cubicBezTo>
              </a:path>
              <a:path w="2159" h="2283">
                <a:moveTo>
                  <a:pt x="4266" y="11013"/>
                </a:moveTo>
                <a:cubicBezTo>
                  <a:pt x="4342" y="11463"/>
                  <a:pt x="4364" y="11852"/>
                  <a:pt x="4341" y="12303"/>
                </a:cubicBezTo>
                <a:cubicBezTo>
                  <a:pt x="4341" y="12328"/>
                  <a:pt x="4341" y="12353"/>
                  <a:pt x="4341" y="12378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24040" y="4133880"/>
            <a:ext cx="106200" cy="189000"/>
          </a:xfrm>
          <a:custGeom>
            <a:avLst/>
            <a:gdLst/>
            <a:ahLst/>
            <a:rect l="l" t="t" r="r" b="b"/>
            <a:pathLst>
              <a:path w="299" h="521">
                <a:moveTo>
                  <a:pt x="5060" y="11509"/>
                </a:moveTo>
                <a:cubicBezTo>
                  <a:pt x="5004" y="11427"/>
                  <a:pt x="4857" y="11604"/>
                  <a:pt x="4812" y="11658"/>
                </a:cubicBezTo>
                <a:cubicBezTo>
                  <a:pt x="4804" y="11675"/>
                  <a:pt x="4795" y="11691"/>
                  <a:pt x="4787" y="11708"/>
                </a:cubicBezTo>
                <a:cubicBezTo>
                  <a:pt x="4979" y="11716"/>
                  <a:pt x="5257" y="11728"/>
                  <a:pt x="4961" y="11931"/>
                </a:cubicBezTo>
                <a:cubicBezTo>
                  <a:pt x="4681" y="12123"/>
                  <a:pt x="4832" y="11886"/>
                  <a:pt x="4887" y="1175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62080" y="4000680"/>
            <a:ext cx="233280" cy="30456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5730" y="11112"/>
                </a:moveTo>
                <a:cubicBezTo>
                  <a:pt x="5815" y="11385"/>
                  <a:pt x="5853" y="11661"/>
                  <a:pt x="5928" y="11931"/>
                </a:cubicBezTo>
              </a:path>
              <a:path w="646" h="845">
                <a:moveTo>
                  <a:pt x="6077" y="11609"/>
                </a:moveTo>
                <a:cubicBezTo>
                  <a:pt x="6162" y="11615"/>
                  <a:pt x="6284" y="11611"/>
                  <a:pt x="6325" y="11658"/>
                </a:cubicBezTo>
                <a:cubicBezTo>
                  <a:pt x="6333" y="11666"/>
                  <a:pt x="6342" y="11675"/>
                  <a:pt x="6350" y="11683"/>
                </a:cubicBezTo>
                <a:cubicBezTo>
                  <a:pt x="6330" y="11547"/>
                  <a:pt x="6305" y="11543"/>
                  <a:pt x="6226" y="11410"/>
                </a:cubicBezTo>
                <a:cubicBezTo>
                  <a:pt x="6161" y="11466"/>
                  <a:pt x="5894" y="11902"/>
                  <a:pt x="6176" y="11956"/>
                </a:cubicBezTo>
                <a:cubicBezTo>
                  <a:pt x="6242" y="11939"/>
                  <a:pt x="6309" y="11923"/>
                  <a:pt x="6375" y="11906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8840" y="5510160"/>
            <a:ext cx="2221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3990" y="15429"/>
                </a:moveTo>
                <a:cubicBezTo>
                  <a:pt x="13975" y="15611"/>
                  <a:pt x="13943" y="15793"/>
                  <a:pt x="13915" y="15974"/>
                </a:cubicBezTo>
                <a:cubicBezTo>
                  <a:pt x="13915" y="16090"/>
                  <a:pt x="13897" y="15793"/>
                  <a:pt x="13891" y="15677"/>
                </a:cubicBezTo>
                <a:cubicBezTo>
                  <a:pt x="13888" y="15607"/>
                  <a:pt x="13938" y="15186"/>
                  <a:pt x="13816" y="15503"/>
                </a:cubicBezTo>
                <a:cubicBezTo>
                  <a:pt x="13800" y="15561"/>
                  <a:pt x="13783" y="15619"/>
                  <a:pt x="13767" y="15677"/>
                </a:cubicBezTo>
                <a:cubicBezTo>
                  <a:pt x="13670" y="15756"/>
                  <a:pt x="13738" y="15671"/>
                  <a:pt x="13791" y="15577"/>
                </a:cubicBezTo>
                <a:cubicBezTo>
                  <a:pt x="13867" y="15444"/>
                  <a:pt x="13981" y="15366"/>
                  <a:pt x="14114" y="15304"/>
                </a:cubicBezTo>
                <a:cubicBezTo>
                  <a:pt x="14178" y="15386"/>
                  <a:pt x="14248" y="15608"/>
                  <a:pt x="14337" y="15652"/>
                </a:cubicBezTo>
                <a:cubicBezTo>
                  <a:pt x="14337" y="15644"/>
                  <a:pt x="14337" y="15635"/>
                  <a:pt x="14337" y="15627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84840" y="5911920"/>
            <a:ext cx="303120" cy="339480"/>
          </a:xfrm>
          <a:custGeom>
            <a:avLst/>
            <a:gdLst/>
            <a:ahLst/>
            <a:rect l="l" t="t" r="r" b="b"/>
            <a:pathLst>
              <a:path w="845" h="943">
                <a:moveTo>
                  <a:pt x="13568" y="16421"/>
                </a:moveTo>
                <a:cubicBezTo>
                  <a:pt x="13573" y="16594"/>
                  <a:pt x="13571" y="16728"/>
                  <a:pt x="13618" y="16892"/>
                </a:cubicBezTo>
                <a:cubicBezTo>
                  <a:pt x="13731" y="16790"/>
                  <a:pt x="13790" y="16618"/>
                  <a:pt x="13791" y="16619"/>
                </a:cubicBezTo>
                <a:cubicBezTo>
                  <a:pt x="13863" y="16679"/>
                  <a:pt x="13968" y="16936"/>
                  <a:pt x="14089" y="16718"/>
                </a:cubicBezTo>
                <a:cubicBezTo>
                  <a:pt x="14111" y="16585"/>
                  <a:pt x="14124" y="16551"/>
                  <a:pt x="14089" y="16470"/>
                </a:cubicBezTo>
                <a:cubicBezTo>
                  <a:pt x="14144" y="16709"/>
                  <a:pt x="14178" y="16946"/>
                  <a:pt x="14213" y="17190"/>
                </a:cubicBezTo>
                <a:cubicBezTo>
                  <a:pt x="14231" y="17297"/>
                  <a:pt x="14239" y="17305"/>
                  <a:pt x="14238" y="17363"/>
                </a:cubicBezTo>
                <a:cubicBezTo>
                  <a:pt x="14216" y="17122"/>
                  <a:pt x="14192" y="16915"/>
                  <a:pt x="14213" y="16669"/>
                </a:cubicBezTo>
                <a:cubicBezTo>
                  <a:pt x="14233" y="16507"/>
                  <a:pt x="14211" y="16461"/>
                  <a:pt x="14312" y="16421"/>
                </a:cubicBezTo>
                <a:cubicBezTo>
                  <a:pt x="14389" y="16574"/>
                  <a:pt x="14520" y="16876"/>
                  <a:pt x="14288" y="16991"/>
                </a:cubicBezTo>
                <a:cubicBezTo>
                  <a:pt x="14152" y="16991"/>
                  <a:pt x="14101" y="16984"/>
                  <a:pt x="14039" y="1689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5960" y="5749920"/>
            <a:ext cx="785880" cy="501480"/>
          </a:xfrm>
          <a:custGeom>
            <a:avLst/>
            <a:gdLst/>
            <a:ahLst/>
            <a:rect l="l" t="t" r="r" b="b"/>
            <a:pathLst>
              <a:path w="2184" h="1390">
                <a:moveTo>
                  <a:pt x="14709" y="15974"/>
                </a:moveTo>
                <a:cubicBezTo>
                  <a:pt x="14781" y="16402"/>
                  <a:pt x="14841" y="16831"/>
                  <a:pt x="14858" y="17264"/>
                </a:cubicBezTo>
                <a:cubicBezTo>
                  <a:pt x="14858" y="17363"/>
                  <a:pt x="14858" y="17396"/>
                  <a:pt x="14858" y="17264"/>
                </a:cubicBezTo>
              </a:path>
              <a:path w="2184" h="1390">
                <a:moveTo>
                  <a:pt x="15304" y="16793"/>
                </a:moveTo>
                <a:cubicBezTo>
                  <a:pt x="15304" y="16800"/>
                  <a:pt x="15248" y="16639"/>
                  <a:pt x="15205" y="16570"/>
                </a:cubicBezTo>
                <a:cubicBezTo>
                  <a:pt x="14955" y="16649"/>
                  <a:pt x="14948" y="16758"/>
                  <a:pt x="15007" y="17016"/>
                </a:cubicBezTo>
                <a:cubicBezTo>
                  <a:pt x="15288" y="16934"/>
                  <a:pt x="15252" y="16911"/>
                  <a:pt x="15329" y="16619"/>
                </a:cubicBezTo>
              </a:path>
              <a:path w="2184" h="1390">
                <a:moveTo>
                  <a:pt x="15205" y="16222"/>
                </a:moveTo>
                <a:cubicBezTo>
                  <a:pt x="15247" y="16476"/>
                  <a:pt x="15322" y="16737"/>
                  <a:pt x="15379" y="16991"/>
                </a:cubicBezTo>
                <a:cubicBezTo>
                  <a:pt x="15404" y="17090"/>
                  <a:pt x="15412" y="17123"/>
                  <a:pt x="15429" y="16991"/>
                </a:cubicBezTo>
              </a:path>
              <a:path w="2184" h="1390">
                <a:moveTo>
                  <a:pt x="15503" y="16619"/>
                </a:moveTo>
                <a:cubicBezTo>
                  <a:pt x="15425" y="16807"/>
                  <a:pt x="15406" y="16925"/>
                  <a:pt x="15453" y="17115"/>
                </a:cubicBezTo>
                <a:cubicBezTo>
                  <a:pt x="15662" y="17063"/>
                  <a:pt x="15824" y="16914"/>
                  <a:pt x="15652" y="16669"/>
                </a:cubicBezTo>
                <a:cubicBezTo>
                  <a:pt x="15591" y="16649"/>
                  <a:pt x="15576" y="16651"/>
                  <a:pt x="15553" y="16619"/>
                </a:cubicBezTo>
              </a:path>
              <a:path w="2184" h="1390">
                <a:moveTo>
                  <a:pt x="15875" y="16644"/>
                </a:moveTo>
                <a:cubicBezTo>
                  <a:pt x="15886" y="16686"/>
                  <a:pt x="16001" y="17177"/>
                  <a:pt x="16123" y="17016"/>
                </a:cubicBezTo>
                <a:cubicBezTo>
                  <a:pt x="16203" y="16910"/>
                  <a:pt x="16176" y="16779"/>
                  <a:pt x="16148" y="16669"/>
                </a:cubicBezTo>
                <a:cubicBezTo>
                  <a:pt x="16157" y="16800"/>
                  <a:pt x="16222" y="17097"/>
                  <a:pt x="16421" y="16917"/>
                </a:cubicBezTo>
                <a:cubicBezTo>
                  <a:pt x="16632" y="16726"/>
                  <a:pt x="16331" y="16610"/>
                  <a:pt x="16197" y="16594"/>
                </a:cubicBezTo>
              </a:path>
              <a:path w="2184" h="1390">
                <a:moveTo>
                  <a:pt x="16470" y="16743"/>
                </a:moveTo>
                <a:cubicBezTo>
                  <a:pt x="16508" y="16875"/>
                  <a:pt x="16525" y="16889"/>
                  <a:pt x="16520" y="16966"/>
                </a:cubicBezTo>
                <a:cubicBezTo>
                  <a:pt x="16515" y="16928"/>
                  <a:pt x="16493" y="16462"/>
                  <a:pt x="16644" y="16545"/>
                </a:cubicBezTo>
                <a:cubicBezTo>
                  <a:pt x="16813" y="16638"/>
                  <a:pt x="16769" y="17232"/>
                  <a:pt x="16867" y="17066"/>
                </a:cubicBezTo>
                <a:cubicBezTo>
                  <a:pt x="16875" y="17025"/>
                  <a:pt x="16884" y="16983"/>
                  <a:pt x="16892" y="16942"/>
                </a:cubicBezTo>
              </a:path>
            </a:pathLst>
          </a:custGeom>
          <a:noFill/>
          <a:ln cap="rnd" w="3492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 I graph poi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raph an orde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ir, you will alway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gin at the orig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ide left or right 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x-axis and th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 or down to you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 coordin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t’s Try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ph the following ordered pair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)  (4,3 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)  (-4,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.)  (4 ½,-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.)  (-4,-3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,)  (0,-2.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.)  (5,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7.)  (3.5, -1.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510000" y="1852560"/>
            <a:ext cx="4552920" cy="4538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3240" y="2768760"/>
            <a:ext cx="3670560" cy="1285560"/>
          </a:xfrm>
          <a:custGeom>
            <a:avLst/>
            <a:gdLst/>
            <a:ahLst/>
            <a:rect l="l" t="t" r="r" b="b"/>
            <a:pathLst>
              <a:path w="10196" h="3573">
                <a:moveTo>
                  <a:pt x="21258" y="8161"/>
                </a:moveTo>
                <a:cubicBezTo>
                  <a:pt x="21498" y="8201"/>
                  <a:pt x="21678" y="8398"/>
                  <a:pt x="21704" y="8657"/>
                </a:cubicBezTo>
                <a:cubicBezTo>
                  <a:pt x="21721" y="8820"/>
                  <a:pt x="21579" y="9010"/>
                  <a:pt x="21481" y="9128"/>
                </a:cubicBezTo>
              </a:path>
              <a:path w="10196" h="3573">
                <a:moveTo>
                  <a:pt x="11509" y="8508"/>
                </a:moveTo>
                <a:cubicBezTo>
                  <a:pt x="11593" y="8487"/>
                  <a:pt x="11613" y="8486"/>
                  <a:pt x="11658" y="8458"/>
                </a:cubicBezTo>
              </a:path>
              <a:path w="10196" h="3573">
                <a:moveTo>
                  <a:pt x="12254" y="7689"/>
                </a:moveTo>
                <a:cubicBezTo>
                  <a:pt x="12494" y="7754"/>
                  <a:pt x="12690" y="7933"/>
                  <a:pt x="12700" y="8210"/>
                </a:cubicBezTo>
                <a:cubicBezTo>
                  <a:pt x="12707" y="8414"/>
                  <a:pt x="12621" y="8507"/>
                  <a:pt x="12477" y="8533"/>
                </a:cubicBezTo>
              </a:path>
              <a:path w="10196" h="3573">
                <a:moveTo>
                  <a:pt x="11509" y="11063"/>
                </a:moveTo>
                <a:cubicBezTo>
                  <a:pt x="11550" y="11139"/>
                  <a:pt x="11571" y="11172"/>
                  <a:pt x="11584" y="1126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880" y="2867040"/>
            <a:ext cx="1832040" cy="54000"/>
          </a:xfrm>
          <a:custGeom>
            <a:avLst/>
            <a:gdLst/>
            <a:ahLst/>
            <a:rect l="l" t="t" r="r" b="b"/>
            <a:pathLst>
              <a:path w="5086" h="150">
                <a:moveTo>
                  <a:pt x="6970" y="8086"/>
                </a:moveTo>
                <a:cubicBezTo>
                  <a:pt x="6750" y="8107"/>
                  <a:pt x="6486" y="8062"/>
                  <a:pt x="6251" y="8037"/>
                </a:cubicBezTo>
                <a:cubicBezTo>
                  <a:pt x="5457" y="7951"/>
                  <a:pt x="4690" y="8005"/>
                  <a:pt x="3894" y="8012"/>
                </a:cubicBezTo>
                <a:cubicBezTo>
                  <a:pt x="3484" y="8016"/>
                  <a:pt x="3105" y="7993"/>
                  <a:pt x="2704" y="7962"/>
                </a:cubicBezTo>
                <a:cubicBezTo>
                  <a:pt x="2589" y="7953"/>
                  <a:pt x="2480" y="7968"/>
                  <a:pt x="2381" y="7987"/>
                </a:cubicBezTo>
                <a:cubicBezTo>
                  <a:pt x="2246" y="8013"/>
                  <a:pt x="2096" y="8050"/>
                  <a:pt x="1960" y="8086"/>
                </a:cubicBezTo>
                <a:cubicBezTo>
                  <a:pt x="1935" y="8094"/>
                  <a:pt x="1910" y="8103"/>
                  <a:pt x="1885" y="811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11760" y="2874960"/>
            <a:ext cx="633240" cy="1376280"/>
          </a:xfrm>
          <a:custGeom>
            <a:avLst/>
            <a:gdLst/>
            <a:ahLst/>
            <a:rect l="l" t="t" r="r" b="b"/>
            <a:pathLst>
              <a:path w="1763" h="3821">
                <a:moveTo>
                  <a:pt x="12378" y="9103"/>
                </a:moveTo>
                <a:cubicBezTo>
                  <a:pt x="12378" y="9049"/>
                  <a:pt x="12378" y="9049"/>
                  <a:pt x="12378" y="9103"/>
                </a:cubicBezTo>
                <a:cubicBezTo>
                  <a:pt x="12378" y="9179"/>
                  <a:pt x="12429" y="9054"/>
                  <a:pt x="12427" y="9054"/>
                </a:cubicBezTo>
                <a:cubicBezTo>
                  <a:pt x="12369" y="9069"/>
                  <a:pt x="12417" y="9182"/>
                  <a:pt x="12427" y="9103"/>
                </a:cubicBezTo>
                <a:cubicBezTo>
                  <a:pt x="12428" y="9092"/>
                  <a:pt x="12427" y="8987"/>
                  <a:pt x="12427" y="9054"/>
                </a:cubicBezTo>
                <a:cubicBezTo>
                  <a:pt x="12427" y="9086"/>
                  <a:pt x="12448" y="9082"/>
                  <a:pt x="12477" y="9103"/>
                </a:cubicBezTo>
                <a:cubicBezTo>
                  <a:pt x="12493" y="9072"/>
                  <a:pt x="12497" y="9035"/>
                  <a:pt x="12452" y="9029"/>
                </a:cubicBezTo>
                <a:cubicBezTo>
                  <a:pt x="12393" y="9022"/>
                  <a:pt x="12387" y="9173"/>
                  <a:pt x="12402" y="9178"/>
                </a:cubicBezTo>
                <a:cubicBezTo>
                  <a:pt x="12500" y="9211"/>
                  <a:pt x="12483" y="9122"/>
                  <a:pt x="12502" y="9054"/>
                </a:cubicBezTo>
                <a:cubicBezTo>
                  <a:pt x="12406" y="9027"/>
                  <a:pt x="12409" y="9079"/>
                  <a:pt x="12402" y="9178"/>
                </a:cubicBezTo>
                <a:cubicBezTo>
                  <a:pt x="12400" y="9204"/>
                  <a:pt x="12532" y="9239"/>
                  <a:pt x="12477" y="9103"/>
                </a:cubicBezTo>
                <a:cubicBezTo>
                  <a:pt x="12431" y="8989"/>
                  <a:pt x="12308" y="9161"/>
                  <a:pt x="12303" y="9203"/>
                </a:cubicBezTo>
                <a:cubicBezTo>
                  <a:pt x="12311" y="9211"/>
                  <a:pt x="12320" y="9219"/>
                  <a:pt x="12328" y="9227"/>
                </a:cubicBezTo>
                <a:cubicBezTo>
                  <a:pt x="12365" y="9221"/>
                  <a:pt x="12577" y="9172"/>
                  <a:pt x="12452" y="9103"/>
                </a:cubicBezTo>
                <a:cubicBezTo>
                  <a:pt x="12379" y="9063"/>
                  <a:pt x="12287" y="9146"/>
                  <a:pt x="12328" y="9227"/>
                </a:cubicBezTo>
                <a:cubicBezTo>
                  <a:pt x="12336" y="9227"/>
                  <a:pt x="12345" y="9227"/>
                  <a:pt x="12353" y="9227"/>
                </a:cubicBezTo>
              </a:path>
              <a:path w="1763" h="3821">
                <a:moveTo>
                  <a:pt x="11336" y="8260"/>
                </a:moveTo>
                <a:cubicBezTo>
                  <a:pt x="11257" y="8438"/>
                  <a:pt x="11079" y="8794"/>
                  <a:pt x="11336" y="8930"/>
                </a:cubicBezTo>
                <a:cubicBezTo>
                  <a:pt x="11393" y="8960"/>
                  <a:pt x="11489" y="8936"/>
                  <a:pt x="11509" y="8905"/>
                </a:cubicBezTo>
              </a:path>
              <a:path w="1763" h="3821">
                <a:moveTo>
                  <a:pt x="11708" y="8210"/>
                </a:moveTo>
                <a:cubicBezTo>
                  <a:pt x="11721" y="8296"/>
                  <a:pt x="11740" y="8357"/>
                  <a:pt x="11733" y="8434"/>
                </a:cubicBezTo>
                <a:cubicBezTo>
                  <a:pt x="11876" y="8405"/>
                  <a:pt x="11923" y="8368"/>
                  <a:pt x="11956" y="8235"/>
                </a:cubicBezTo>
              </a:path>
              <a:path w="1763" h="3821">
                <a:moveTo>
                  <a:pt x="11832" y="8111"/>
                </a:moveTo>
                <a:cubicBezTo>
                  <a:pt x="11876" y="8304"/>
                  <a:pt x="11935" y="8490"/>
                  <a:pt x="11981" y="8682"/>
                </a:cubicBezTo>
              </a:path>
              <a:path w="1763" h="3821">
                <a:moveTo>
                  <a:pt x="12105" y="8508"/>
                </a:moveTo>
                <a:cubicBezTo>
                  <a:pt x="12128" y="8574"/>
                  <a:pt x="12154" y="8726"/>
                  <a:pt x="12154" y="8657"/>
                </a:cubicBezTo>
              </a:path>
              <a:path w="1763" h="3821">
                <a:moveTo>
                  <a:pt x="12105" y="8012"/>
                </a:moveTo>
                <a:cubicBezTo>
                  <a:pt x="12156" y="7996"/>
                  <a:pt x="12356" y="7929"/>
                  <a:pt x="12328" y="8062"/>
                </a:cubicBezTo>
                <a:cubicBezTo>
                  <a:pt x="12305" y="8172"/>
                  <a:pt x="12241" y="8110"/>
                  <a:pt x="12278" y="8186"/>
                </a:cubicBezTo>
                <a:cubicBezTo>
                  <a:pt x="12422" y="8164"/>
                  <a:pt x="12559" y="8211"/>
                  <a:pt x="12427" y="8384"/>
                </a:cubicBezTo>
                <a:cubicBezTo>
                  <a:pt x="12322" y="8522"/>
                  <a:pt x="12319" y="8348"/>
                  <a:pt x="12303" y="8285"/>
                </a:cubicBezTo>
              </a:path>
              <a:path w="1763" h="3821">
                <a:moveTo>
                  <a:pt x="12477" y="9103"/>
                </a:moveTo>
                <a:cubicBezTo>
                  <a:pt x="12477" y="9111"/>
                  <a:pt x="12477" y="9120"/>
                  <a:pt x="12477" y="9128"/>
                </a:cubicBezTo>
                <a:cubicBezTo>
                  <a:pt x="12502" y="9128"/>
                  <a:pt x="12526" y="9128"/>
                  <a:pt x="12551" y="9128"/>
                </a:cubicBezTo>
                <a:cubicBezTo>
                  <a:pt x="12564" y="9166"/>
                  <a:pt x="12581" y="9153"/>
                  <a:pt x="12626" y="9153"/>
                </a:cubicBezTo>
              </a:path>
              <a:path w="1763" h="3821">
                <a:moveTo>
                  <a:pt x="11609" y="11733"/>
                </a:moveTo>
                <a:cubicBezTo>
                  <a:pt x="11593" y="11670"/>
                  <a:pt x="11597" y="11690"/>
                  <a:pt x="11534" y="11708"/>
                </a:cubicBezTo>
                <a:cubicBezTo>
                  <a:pt x="11491" y="11851"/>
                  <a:pt x="11599" y="11828"/>
                  <a:pt x="11683" y="11733"/>
                </a:cubicBezTo>
                <a:cubicBezTo>
                  <a:pt x="11735" y="11674"/>
                  <a:pt x="11585" y="11634"/>
                  <a:pt x="11534" y="11708"/>
                </a:cubicBezTo>
                <a:cubicBezTo>
                  <a:pt x="11447" y="11834"/>
                  <a:pt x="11653" y="11770"/>
                  <a:pt x="11633" y="11708"/>
                </a:cubicBezTo>
                <a:cubicBezTo>
                  <a:pt x="11604" y="11620"/>
                  <a:pt x="11502" y="11765"/>
                  <a:pt x="11485" y="11782"/>
                </a:cubicBezTo>
                <a:cubicBezTo>
                  <a:pt x="11534" y="11789"/>
                  <a:pt x="11729" y="11683"/>
                  <a:pt x="11609" y="11683"/>
                </a:cubicBezTo>
                <a:cubicBezTo>
                  <a:pt x="11534" y="11702"/>
                  <a:pt x="11501" y="11684"/>
                  <a:pt x="11509" y="11733"/>
                </a:cubicBezTo>
              </a:path>
              <a:path w="1763" h="3821">
                <a:moveTo>
                  <a:pt x="10964" y="10939"/>
                </a:moveTo>
                <a:cubicBezTo>
                  <a:pt x="10932" y="11066"/>
                  <a:pt x="10813" y="11205"/>
                  <a:pt x="10864" y="11361"/>
                </a:cubicBezTo>
                <a:cubicBezTo>
                  <a:pt x="10905" y="11487"/>
                  <a:pt x="11012" y="11447"/>
                  <a:pt x="11063" y="11410"/>
                </a:cubicBezTo>
              </a:path>
              <a:path w="1763" h="3821">
                <a:moveTo>
                  <a:pt x="11261" y="10914"/>
                </a:moveTo>
                <a:cubicBezTo>
                  <a:pt x="11179" y="10914"/>
                  <a:pt x="11158" y="10890"/>
                  <a:pt x="11137" y="10988"/>
                </a:cubicBezTo>
                <a:cubicBezTo>
                  <a:pt x="11137" y="11030"/>
                  <a:pt x="11137" y="11038"/>
                  <a:pt x="11137" y="11063"/>
                </a:cubicBezTo>
                <a:cubicBezTo>
                  <a:pt x="11164" y="11058"/>
                  <a:pt x="11286" y="10993"/>
                  <a:pt x="11311" y="11013"/>
                </a:cubicBezTo>
                <a:cubicBezTo>
                  <a:pt x="11433" y="11114"/>
                  <a:pt x="11376" y="11244"/>
                  <a:pt x="11261" y="11311"/>
                </a:cubicBezTo>
                <a:cubicBezTo>
                  <a:pt x="11196" y="11333"/>
                  <a:pt x="11181" y="11341"/>
                  <a:pt x="11137" y="11336"/>
                </a:cubicBezTo>
              </a:path>
              <a:path w="1763" h="3821">
                <a:moveTo>
                  <a:pt x="11733" y="10840"/>
                </a:moveTo>
                <a:cubicBezTo>
                  <a:pt x="11697" y="10955"/>
                  <a:pt x="11625" y="11093"/>
                  <a:pt x="11782" y="11137"/>
                </a:cubicBezTo>
                <a:cubicBezTo>
                  <a:pt x="11807" y="11137"/>
                  <a:pt x="11832" y="11137"/>
                  <a:pt x="11857" y="11137"/>
                </a:cubicBezTo>
                <a:cubicBezTo>
                  <a:pt x="11952" y="10930"/>
                  <a:pt x="11889" y="11013"/>
                  <a:pt x="11757" y="10914"/>
                </a:cubicBezTo>
                <a:cubicBezTo>
                  <a:pt x="11749" y="10897"/>
                  <a:pt x="11741" y="10881"/>
                  <a:pt x="11733" y="10864"/>
                </a:cubicBezTo>
              </a:path>
              <a:path w="1763" h="3821">
                <a:moveTo>
                  <a:pt x="12080" y="10641"/>
                </a:moveTo>
                <a:cubicBezTo>
                  <a:pt x="12271" y="10785"/>
                  <a:pt x="12440" y="10902"/>
                  <a:pt x="12328" y="11162"/>
                </a:cubicBezTo>
                <a:cubicBezTo>
                  <a:pt x="12274" y="11234"/>
                  <a:pt x="12249" y="11301"/>
                  <a:pt x="12254" y="1123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2280" y="3017880"/>
            <a:ext cx="804960" cy="295200"/>
          </a:xfrm>
          <a:custGeom>
            <a:avLst/>
            <a:gdLst/>
            <a:ahLst/>
            <a:rect l="l" t="t" r="r" b="b"/>
            <a:pathLst>
              <a:path w="2233" h="820">
                <a:moveTo>
                  <a:pt x="19323" y="8682"/>
                </a:moveTo>
                <a:cubicBezTo>
                  <a:pt x="19282" y="8682"/>
                  <a:pt x="19240" y="8682"/>
                  <a:pt x="19199" y="8682"/>
                </a:cubicBezTo>
                <a:cubicBezTo>
                  <a:pt x="19199" y="8649"/>
                  <a:pt x="19254" y="8642"/>
                  <a:pt x="19224" y="8657"/>
                </a:cubicBezTo>
                <a:cubicBezTo>
                  <a:pt x="19172" y="8683"/>
                  <a:pt x="19217" y="8740"/>
                  <a:pt x="19224" y="8682"/>
                </a:cubicBezTo>
                <a:cubicBezTo>
                  <a:pt x="19233" y="8608"/>
                  <a:pt x="19146" y="8700"/>
                  <a:pt x="19174" y="8731"/>
                </a:cubicBezTo>
                <a:cubicBezTo>
                  <a:pt x="19249" y="8814"/>
                  <a:pt x="19296" y="8694"/>
                  <a:pt x="19273" y="8632"/>
                </a:cubicBezTo>
                <a:cubicBezTo>
                  <a:pt x="19272" y="8629"/>
                  <a:pt x="19205" y="8632"/>
                  <a:pt x="19199" y="8632"/>
                </a:cubicBezTo>
                <a:cubicBezTo>
                  <a:pt x="19193" y="8666"/>
                  <a:pt x="19203" y="8880"/>
                  <a:pt x="19298" y="8756"/>
                </a:cubicBezTo>
                <a:cubicBezTo>
                  <a:pt x="19323" y="8683"/>
                  <a:pt x="19331" y="8659"/>
                  <a:pt x="19323" y="8607"/>
                </a:cubicBezTo>
                <a:cubicBezTo>
                  <a:pt x="19285" y="8607"/>
                  <a:pt x="19196" y="8660"/>
                  <a:pt x="19248" y="8706"/>
                </a:cubicBezTo>
                <a:cubicBezTo>
                  <a:pt x="19323" y="8771"/>
                  <a:pt x="19380" y="8555"/>
                  <a:pt x="19273" y="8582"/>
                </a:cubicBezTo>
                <a:cubicBezTo>
                  <a:pt x="19160" y="8611"/>
                  <a:pt x="19184" y="8718"/>
                  <a:pt x="19298" y="8706"/>
                </a:cubicBezTo>
                <a:cubicBezTo>
                  <a:pt x="19303" y="8695"/>
                  <a:pt x="19338" y="8575"/>
                  <a:pt x="19273" y="8607"/>
                </a:cubicBezTo>
                <a:cubicBezTo>
                  <a:pt x="19252" y="8617"/>
                  <a:pt x="19222" y="8732"/>
                  <a:pt x="19298" y="8682"/>
                </a:cubicBezTo>
                <a:cubicBezTo>
                  <a:pt x="19363" y="8640"/>
                  <a:pt x="19312" y="8650"/>
                  <a:pt x="19298" y="8657"/>
                </a:cubicBezTo>
                <a:cubicBezTo>
                  <a:pt x="19290" y="8657"/>
                  <a:pt x="19281" y="8657"/>
                  <a:pt x="19273" y="8657"/>
                </a:cubicBezTo>
              </a:path>
              <a:path w="2233" h="820">
                <a:moveTo>
                  <a:pt x="19769" y="8533"/>
                </a:moveTo>
                <a:cubicBezTo>
                  <a:pt x="19788" y="8624"/>
                  <a:pt x="19695" y="8846"/>
                  <a:pt x="19720" y="9004"/>
                </a:cubicBezTo>
                <a:cubicBezTo>
                  <a:pt x="19733" y="9085"/>
                  <a:pt x="19808" y="9079"/>
                  <a:pt x="19869" y="9079"/>
                </a:cubicBezTo>
              </a:path>
              <a:path w="2233" h="820">
                <a:moveTo>
                  <a:pt x="20067" y="8657"/>
                </a:moveTo>
                <a:cubicBezTo>
                  <a:pt x="20040" y="8723"/>
                  <a:pt x="20019" y="8789"/>
                  <a:pt x="19993" y="8855"/>
                </a:cubicBezTo>
                <a:cubicBezTo>
                  <a:pt x="20074" y="8838"/>
                  <a:pt x="20157" y="8820"/>
                  <a:pt x="20241" y="8806"/>
                </a:cubicBezTo>
                <a:cubicBezTo>
                  <a:pt x="20249" y="8806"/>
                  <a:pt x="20257" y="8806"/>
                  <a:pt x="20265" y="8806"/>
                </a:cubicBezTo>
              </a:path>
              <a:path w="2233" h="820">
                <a:moveTo>
                  <a:pt x="20241" y="8508"/>
                </a:moveTo>
                <a:cubicBezTo>
                  <a:pt x="20241" y="8692"/>
                  <a:pt x="20233" y="8878"/>
                  <a:pt x="20265" y="9054"/>
                </a:cubicBezTo>
                <a:cubicBezTo>
                  <a:pt x="20265" y="9062"/>
                  <a:pt x="20265" y="9071"/>
                  <a:pt x="20265" y="9079"/>
                </a:cubicBezTo>
              </a:path>
              <a:path w="2233" h="820">
                <a:moveTo>
                  <a:pt x="20414" y="8979"/>
                </a:moveTo>
                <a:cubicBezTo>
                  <a:pt x="20414" y="9102"/>
                  <a:pt x="20436" y="9131"/>
                  <a:pt x="20365" y="9203"/>
                </a:cubicBezTo>
              </a:path>
              <a:path w="2233" h="820">
                <a:moveTo>
                  <a:pt x="20563" y="8558"/>
                </a:moveTo>
                <a:cubicBezTo>
                  <a:pt x="20641" y="8506"/>
                  <a:pt x="20670" y="8488"/>
                  <a:pt x="20737" y="8483"/>
                </a:cubicBezTo>
                <a:cubicBezTo>
                  <a:pt x="20782" y="8602"/>
                  <a:pt x="20766" y="8692"/>
                  <a:pt x="20638" y="8756"/>
                </a:cubicBezTo>
                <a:cubicBezTo>
                  <a:pt x="20613" y="8756"/>
                  <a:pt x="20605" y="8756"/>
                  <a:pt x="20638" y="8756"/>
                </a:cubicBezTo>
                <a:cubicBezTo>
                  <a:pt x="20794" y="8756"/>
                  <a:pt x="20944" y="8859"/>
                  <a:pt x="20737" y="9004"/>
                </a:cubicBezTo>
                <a:cubicBezTo>
                  <a:pt x="20641" y="9072"/>
                  <a:pt x="20619" y="9010"/>
                  <a:pt x="20563" y="8954"/>
                </a:cubicBezTo>
              </a:path>
              <a:path w="2233" h="820">
                <a:moveTo>
                  <a:pt x="21109" y="8384"/>
                </a:moveTo>
                <a:cubicBezTo>
                  <a:pt x="21109" y="8475"/>
                  <a:pt x="21109" y="8566"/>
                  <a:pt x="21109" y="8657"/>
                </a:cubicBezTo>
              </a:path>
              <a:path w="2233" h="820">
                <a:moveTo>
                  <a:pt x="21034" y="8756"/>
                </a:moveTo>
                <a:cubicBezTo>
                  <a:pt x="21169" y="8721"/>
                  <a:pt x="21197" y="8706"/>
                  <a:pt x="21332" y="8706"/>
                </a:cubicBezTo>
              </a:path>
              <a:path w="2233" h="820">
                <a:moveTo>
                  <a:pt x="21084" y="8855"/>
                </a:moveTo>
                <a:cubicBezTo>
                  <a:pt x="21157" y="8855"/>
                  <a:pt x="21224" y="8838"/>
                  <a:pt x="21282" y="8855"/>
                </a:cubicBezTo>
                <a:cubicBezTo>
                  <a:pt x="21236" y="8926"/>
                  <a:pt x="21173" y="9015"/>
                  <a:pt x="21109" y="9054"/>
                </a:cubicBezTo>
                <a:cubicBezTo>
                  <a:pt x="21201" y="9094"/>
                  <a:pt x="21280" y="9060"/>
                  <a:pt x="21382" y="9054"/>
                </a:cubicBezTo>
                <a:cubicBezTo>
                  <a:pt x="21390" y="9054"/>
                  <a:pt x="21398" y="9054"/>
                  <a:pt x="21406" y="905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35840" y="5099040"/>
            <a:ext cx="652320" cy="303120"/>
          </a:xfrm>
          <a:custGeom>
            <a:avLst/>
            <a:gdLst/>
            <a:ahLst/>
            <a:rect l="l" t="t" r="r" b="b"/>
            <a:pathLst>
              <a:path w="1812" h="845">
                <a:moveTo>
                  <a:pt x="19769" y="14288"/>
                </a:moveTo>
                <a:cubicBezTo>
                  <a:pt x="19758" y="14254"/>
                  <a:pt x="19652" y="14170"/>
                  <a:pt x="19621" y="14263"/>
                </a:cubicBezTo>
                <a:cubicBezTo>
                  <a:pt x="19582" y="14381"/>
                  <a:pt x="19621" y="14370"/>
                  <a:pt x="19695" y="14362"/>
                </a:cubicBezTo>
                <a:cubicBezTo>
                  <a:pt x="19706" y="14313"/>
                  <a:pt x="19697" y="14144"/>
                  <a:pt x="19596" y="14238"/>
                </a:cubicBezTo>
                <a:cubicBezTo>
                  <a:pt x="19449" y="14374"/>
                  <a:pt x="19667" y="14357"/>
                  <a:pt x="19745" y="14288"/>
                </a:cubicBezTo>
                <a:cubicBezTo>
                  <a:pt x="19677" y="14239"/>
                  <a:pt x="19565" y="14225"/>
                  <a:pt x="19645" y="14337"/>
                </a:cubicBezTo>
              </a:path>
              <a:path w="1812" h="845">
                <a:moveTo>
                  <a:pt x="19943" y="14684"/>
                </a:moveTo>
                <a:cubicBezTo>
                  <a:pt x="19950" y="14721"/>
                  <a:pt x="19975" y="14848"/>
                  <a:pt x="20042" y="14808"/>
                </a:cubicBezTo>
                <a:cubicBezTo>
                  <a:pt x="20067" y="14783"/>
                  <a:pt x="20092" y="14759"/>
                  <a:pt x="20117" y="14734"/>
                </a:cubicBezTo>
              </a:path>
              <a:path w="1812" h="845">
                <a:moveTo>
                  <a:pt x="20141" y="14560"/>
                </a:moveTo>
                <a:cubicBezTo>
                  <a:pt x="20141" y="14679"/>
                  <a:pt x="20095" y="14915"/>
                  <a:pt x="20117" y="15007"/>
                </a:cubicBezTo>
                <a:cubicBezTo>
                  <a:pt x="20125" y="15007"/>
                  <a:pt x="20133" y="15007"/>
                  <a:pt x="20141" y="15007"/>
                </a:cubicBezTo>
              </a:path>
              <a:path w="1812" h="845">
                <a:moveTo>
                  <a:pt x="20315" y="14337"/>
                </a:moveTo>
                <a:cubicBezTo>
                  <a:pt x="20315" y="14269"/>
                  <a:pt x="20338" y="14427"/>
                  <a:pt x="20340" y="14436"/>
                </a:cubicBezTo>
                <a:cubicBezTo>
                  <a:pt x="20340" y="14453"/>
                  <a:pt x="20340" y="14469"/>
                  <a:pt x="20340" y="14486"/>
                </a:cubicBezTo>
              </a:path>
              <a:path w="1812" h="845">
                <a:moveTo>
                  <a:pt x="20414" y="14759"/>
                </a:moveTo>
                <a:cubicBezTo>
                  <a:pt x="20459" y="14669"/>
                  <a:pt x="20517" y="14631"/>
                  <a:pt x="20613" y="14610"/>
                </a:cubicBezTo>
                <a:cubicBezTo>
                  <a:pt x="20666" y="14698"/>
                  <a:pt x="20594" y="14742"/>
                  <a:pt x="20563" y="14833"/>
                </a:cubicBezTo>
                <a:cubicBezTo>
                  <a:pt x="20546" y="14885"/>
                  <a:pt x="20668" y="14781"/>
                  <a:pt x="20687" y="14759"/>
                </a:cubicBezTo>
              </a:path>
              <a:path w="1812" h="845">
                <a:moveTo>
                  <a:pt x="20935" y="14784"/>
                </a:moveTo>
                <a:cubicBezTo>
                  <a:pt x="20932" y="14800"/>
                  <a:pt x="20853" y="15113"/>
                  <a:pt x="20910" y="14908"/>
                </a:cubicBezTo>
              </a:path>
              <a:path w="1812" h="845">
                <a:moveTo>
                  <a:pt x="21134" y="14188"/>
                </a:moveTo>
                <a:cubicBezTo>
                  <a:pt x="21181" y="14139"/>
                  <a:pt x="21269" y="14122"/>
                  <a:pt x="21258" y="14188"/>
                </a:cubicBezTo>
                <a:cubicBezTo>
                  <a:pt x="21238" y="14249"/>
                  <a:pt x="21240" y="14264"/>
                  <a:pt x="21208" y="14288"/>
                </a:cubicBezTo>
                <a:cubicBezTo>
                  <a:pt x="21271" y="14288"/>
                  <a:pt x="21344" y="14216"/>
                  <a:pt x="21357" y="14337"/>
                </a:cubicBezTo>
                <a:cubicBezTo>
                  <a:pt x="21379" y="14540"/>
                  <a:pt x="21228" y="14577"/>
                  <a:pt x="21134" y="14461"/>
                </a:cubicBezTo>
              </a:path>
              <a:path w="1812" h="845">
                <a:moveTo>
                  <a:pt x="19645" y="14288"/>
                </a:moveTo>
                <a:cubicBezTo>
                  <a:pt x="19668" y="14265"/>
                  <a:pt x="19676" y="14261"/>
                  <a:pt x="19670" y="14238"/>
                </a:cubicBezTo>
                <a:cubicBezTo>
                  <a:pt x="19652" y="14273"/>
                  <a:pt x="19656" y="14416"/>
                  <a:pt x="19720" y="14337"/>
                </a:cubicBezTo>
                <a:cubicBezTo>
                  <a:pt x="19796" y="14243"/>
                  <a:pt x="19719" y="14248"/>
                  <a:pt x="19695" y="1421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0760" y="5018040"/>
            <a:ext cx="2768400" cy="420840"/>
          </a:xfrm>
          <a:custGeom>
            <a:avLst/>
            <a:gdLst/>
            <a:ahLst/>
            <a:rect l="l" t="t" r="r" b="b"/>
            <a:pathLst>
              <a:path w="7690" h="1167">
                <a:moveTo>
                  <a:pt x="19645" y="14684"/>
                </a:moveTo>
                <a:cubicBezTo>
                  <a:pt x="19571" y="14786"/>
                  <a:pt x="19403" y="15049"/>
                  <a:pt x="19645" y="15106"/>
                </a:cubicBezTo>
                <a:cubicBezTo>
                  <a:pt x="19686" y="15098"/>
                  <a:pt x="19728" y="15089"/>
                  <a:pt x="19769" y="15081"/>
                </a:cubicBezTo>
              </a:path>
              <a:path w="7690" h="1167">
                <a:moveTo>
                  <a:pt x="19794" y="14858"/>
                </a:moveTo>
                <a:cubicBezTo>
                  <a:pt x="19849" y="14842"/>
                  <a:pt x="19896" y="14817"/>
                  <a:pt x="19943" y="14784"/>
                </a:cubicBezTo>
              </a:path>
              <a:path w="7690" h="1167">
                <a:moveTo>
                  <a:pt x="20290" y="14808"/>
                </a:moveTo>
                <a:lnTo>
                  <a:pt x="20290" y="14808"/>
                </a:lnTo>
              </a:path>
              <a:path w="7690" h="1167">
                <a:moveTo>
                  <a:pt x="20538" y="14238"/>
                </a:moveTo>
                <a:cubicBezTo>
                  <a:pt x="20481" y="14434"/>
                  <a:pt x="20375" y="14667"/>
                  <a:pt x="20340" y="14858"/>
                </a:cubicBezTo>
                <a:cubicBezTo>
                  <a:pt x="20348" y="14858"/>
                  <a:pt x="20357" y="14858"/>
                  <a:pt x="20365" y="14858"/>
                </a:cubicBezTo>
              </a:path>
              <a:path w="7690" h="1167">
                <a:moveTo>
                  <a:pt x="21431" y="13940"/>
                </a:moveTo>
                <a:cubicBezTo>
                  <a:pt x="21598" y="14313"/>
                  <a:pt x="21648" y="14463"/>
                  <a:pt x="21258" y="14660"/>
                </a:cubicBezTo>
              </a:path>
              <a:path w="7690" h="1167">
                <a:moveTo>
                  <a:pt x="13891" y="14213"/>
                </a:moveTo>
                <a:cubicBezTo>
                  <a:pt x="14152" y="14362"/>
                  <a:pt x="14301" y="14557"/>
                  <a:pt x="14089" y="14858"/>
                </a:cubicBezTo>
                <a:cubicBezTo>
                  <a:pt x="13986" y="14940"/>
                  <a:pt x="13953" y="14999"/>
                  <a:pt x="13940" y="1488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45000" y="4527720"/>
            <a:ext cx="3108240" cy="830160"/>
          </a:xfrm>
          <a:custGeom>
            <a:avLst/>
            <a:gdLst/>
            <a:ahLst/>
            <a:rect l="l" t="t" r="r" b="b"/>
            <a:pathLst>
              <a:path w="8633" h="2308">
                <a:moveTo>
                  <a:pt x="12626" y="14883"/>
                </a:moveTo>
                <a:cubicBezTo>
                  <a:pt x="12669" y="14861"/>
                  <a:pt x="12681" y="14857"/>
                  <a:pt x="12700" y="14833"/>
                </a:cubicBezTo>
              </a:path>
              <a:path w="8633" h="2308">
                <a:moveTo>
                  <a:pt x="13419" y="14660"/>
                </a:moveTo>
                <a:cubicBezTo>
                  <a:pt x="13466" y="14625"/>
                  <a:pt x="13514" y="14594"/>
                  <a:pt x="13568" y="14560"/>
                </a:cubicBezTo>
              </a:path>
              <a:path w="8633" h="2308">
                <a:moveTo>
                  <a:pt x="16743" y="14064"/>
                </a:moveTo>
                <a:cubicBezTo>
                  <a:pt x="16724" y="14158"/>
                  <a:pt x="16737" y="14177"/>
                  <a:pt x="16694" y="14213"/>
                </a:cubicBezTo>
              </a:path>
              <a:path w="8633" h="2308">
                <a:moveTo>
                  <a:pt x="16917" y="13816"/>
                </a:moveTo>
                <a:cubicBezTo>
                  <a:pt x="16973" y="13779"/>
                  <a:pt x="16977" y="13762"/>
                  <a:pt x="17016" y="13767"/>
                </a:cubicBezTo>
              </a:path>
              <a:path w="8633" h="2308">
                <a:moveTo>
                  <a:pt x="17413" y="13816"/>
                </a:moveTo>
                <a:cubicBezTo>
                  <a:pt x="17454" y="13816"/>
                  <a:pt x="17426" y="13828"/>
                  <a:pt x="17462" y="13841"/>
                </a:cubicBezTo>
              </a:path>
              <a:path w="8633" h="2308">
                <a:moveTo>
                  <a:pt x="17909" y="13221"/>
                </a:moveTo>
                <a:cubicBezTo>
                  <a:pt x="18135" y="13368"/>
                  <a:pt x="18242" y="13508"/>
                  <a:pt x="18132" y="13791"/>
                </a:cubicBezTo>
                <a:cubicBezTo>
                  <a:pt x="18108" y="13852"/>
                  <a:pt x="18015" y="13980"/>
                  <a:pt x="17959" y="14015"/>
                </a:cubicBezTo>
              </a:path>
              <a:path w="8633" h="2308">
                <a:moveTo>
                  <a:pt x="19199" y="12948"/>
                </a:moveTo>
                <a:cubicBezTo>
                  <a:pt x="19114" y="13063"/>
                  <a:pt x="18979" y="13258"/>
                  <a:pt x="19124" y="13395"/>
                </a:cubicBezTo>
                <a:cubicBezTo>
                  <a:pt x="19191" y="13417"/>
                  <a:pt x="19213" y="13432"/>
                  <a:pt x="19224" y="13370"/>
                </a:cubicBezTo>
              </a:path>
              <a:path w="8633" h="2308">
                <a:moveTo>
                  <a:pt x="19695" y="13146"/>
                </a:moveTo>
                <a:lnTo>
                  <a:pt x="19695" y="13146"/>
                </a:lnTo>
              </a:path>
              <a:path w="8633" h="2308">
                <a:moveTo>
                  <a:pt x="19869" y="12824"/>
                </a:moveTo>
                <a:cubicBezTo>
                  <a:pt x="19942" y="12781"/>
                  <a:pt x="19995" y="12756"/>
                  <a:pt x="20067" y="12799"/>
                </a:cubicBezTo>
              </a:path>
              <a:path w="8633" h="2308">
                <a:moveTo>
                  <a:pt x="20166" y="13072"/>
                </a:moveTo>
                <a:cubicBezTo>
                  <a:pt x="20145" y="13139"/>
                  <a:pt x="20127" y="13202"/>
                  <a:pt x="20117" y="13271"/>
                </a:cubicBezTo>
              </a:path>
              <a:path w="8633" h="2308">
                <a:moveTo>
                  <a:pt x="20340" y="12948"/>
                </a:moveTo>
                <a:cubicBezTo>
                  <a:pt x="20401" y="12941"/>
                  <a:pt x="20432" y="12941"/>
                  <a:pt x="20464" y="12898"/>
                </a:cubicBezTo>
              </a:path>
              <a:path w="8633" h="2308">
                <a:moveTo>
                  <a:pt x="20910" y="12923"/>
                </a:moveTo>
                <a:cubicBezTo>
                  <a:pt x="20918" y="12923"/>
                  <a:pt x="20927" y="12923"/>
                  <a:pt x="20935" y="12923"/>
                </a:cubicBezTo>
              </a:path>
              <a:path w="8633" h="2308">
                <a:moveTo>
                  <a:pt x="21158" y="12626"/>
                </a:moveTo>
                <a:cubicBezTo>
                  <a:pt x="21215" y="12588"/>
                  <a:pt x="21218" y="12571"/>
                  <a:pt x="21258" y="1257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38800" y="5099040"/>
            <a:ext cx="31248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12353" y="14288"/>
                </a:moveTo>
                <a:cubicBezTo>
                  <a:pt x="12364" y="14256"/>
                  <a:pt x="12375" y="14251"/>
                  <a:pt x="12402" y="14213"/>
                </a:cubicBezTo>
                <a:cubicBezTo>
                  <a:pt x="12394" y="14216"/>
                  <a:pt x="12282" y="14298"/>
                  <a:pt x="12353" y="14288"/>
                </a:cubicBezTo>
                <a:cubicBezTo>
                  <a:pt x="12516" y="14264"/>
                  <a:pt x="12477" y="14131"/>
                  <a:pt x="12402" y="14163"/>
                </a:cubicBezTo>
                <a:cubicBezTo>
                  <a:pt x="12332" y="14194"/>
                  <a:pt x="12347" y="14407"/>
                  <a:pt x="12452" y="14288"/>
                </a:cubicBezTo>
                <a:cubicBezTo>
                  <a:pt x="12472" y="14227"/>
                  <a:pt x="12491" y="14212"/>
                  <a:pt x="12452" y="14188"/>
                </a:cubicBezTo>
                <a:cubicBezTo>
                  <a:pt x="12401" y="14232"/>
                  <a:pt x="12371" y="14239"/>
                  <a:pt x="12402" y="14288"/>
                </a:cubicBezTo>
              </a:path>
              <a:path w="869" h="1043">
                <a:moveTo>
                  <a:pt x="12452" y="14709"/>
                </a:moveTo>
                <a:cubicBezTo>
                  <a:pt x="12410" y="14855"/>
                  <a:pt x="12323" y="14969"/>
                  <a:pt x="12378" y="15131"/>
                </a:cubicBezTo>
                <a:cubicBezTo>
                  <a:pt x="12406" y="15214"/>
                  <a:pt x="12474" y="15193"/>
                  <a:pt x="12526" y="15180"/>
                </a:cubicBezTo>
              </a:path>
              <a:path w="869" h="1043">
                <a:moveTo>
                  <a:pt x="12725" y="14684"/>
                </a:moveTo>
                <a:cubicBezTo>
                  <a:pt x="12767" y="14712"/>
                  <a:pt x="12720" y="14769"/>
                  <a:pt x="12799" y="14784"/>
                </a:cubicBezTo>
                <a:cubicBezTo>
                  <a:pt x="12914" y="14806"/>
                  <a:pt x="12926" y="14763"/>
                  <a:pt x="12973" y="14684"/>
                </a:cubicBezTo>
              </a:path>
              <a:path w="869" h="1043">
                <a:moveTo>
                  <a:pt x="12998" y="14536"/>
                </a:moveTo>
                <a:cubicBezTo>
                  <a:pt x="12998" y="14680"/>
                  <a:pt x="13009" y="14816"/>
                  <a:pt x="13022" y="14957"/>
                </a:cubicBezTo>
                <a:cubicBezTo>
                  <a:pt x="13022" y="14974"/>
                  <a:pt x="13022" y="14990"/>
                  <a:pt x="13022" y="15007"/>
                </a:cubicBezTo>
              </a:path>
              <a:path w="869" h="1043">
                <a:moveTo>
                  <a:pt x="13171" y="14957"/>
                </a:moveTo>
                <a:cubicBezTo>
                  <a:pt x="13186" y="15043"/>
                  <a:pt x="13196" y="15096"/>
                  <a:pt x="13196" y="1518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02120" y="5187960"/>
            <a:ext cx="1256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3618" y="14461"/>
                </a:moveTo>
                <a:cubicBezTo>
                  <a:pt x="13793" y="14387"/>
                  <a:pt x="13777" y="14413"/>
                  <a:pt x="13742" y="14585"/>
                </a:cubicBezTo>
                <a:cubicBezTo>
                  <a:pt x="13725" y="14593"/>
                  <a:pt x="13709" y="14602"/>
                  <a:pt x="13692" y="14610"/>
                </a:cubicBezTo>
                <a:cubicBezTo>
                  <a:pt x="13798" y="14567"/>
                  <a:pt x="13897" y="14523"/>
                  <a:pt x="13965" y="14684"/>
                </a:cubicBezTo>
                <a:cubicBezTo>
                  <a:pt x="14051" y="14889"/>
                  <a:pt x="13817" y="14852"/>
                  <a:pt x="13717" y="1483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88000" y="4911840"/>
            <a:ext cx="268200" cy="16020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15900" y="13791"/>
                </a:moveTo>
                <a:cubicBezTo>
                  <a:pt x="15908" y="13791"/>
                  <a:pt x="15917" y="13791"/>
                  <a:pt x="15925" y="13791"/>
                </a:cubicBezTo>
                <a:cubicBezTo>
                  <a:pt x="15874" y="13754"/>
                  <a:pt x="15869" y="13772"/>
                  <a:pt x="15825" y="13816"/>
                </a:cubicBezTo>
                <a:cubicBezTo>
                  <a:pt x="15749" y="13893"/>
                  <a:pt x="15950" y="13798"/>
                  <a:pt x="15949" y="13791"/>
                </a:cubicBezTo>
                <a:cubicBezTo>
                  <a:pt x="15901" y="13768"/>
                  <a:pt x="15887" y="13760"/>
                  <a:pt x="15850" y="13767"/>
                </a:cubicBezTo>
                <a:cubicBezTo>
                  <a:pt x="15824" y="13801"/>
                  <a:pt x="15787" y="13891"/>
                  <a:pt x="15900" y="13841"/>
                </a:cubicBezTo>
                <a:cubicBezTo>
                  <a:pt x="15968" y="13811"/>
                  <a:pt x="15726" y="13827"/>
                  <a:pt x="15825" y="13841"/>
                </a:cubicBezTo>
                <a:cubicBezTo>
                  <a:pt x="15833" y="13842"/>
                  <a:pt x="15917" y="13841"/>
                  <a:pt x="15850" y="13841"/>
                </a:cubicBezTo>
              </a:path>
              <a:path w="745" h="447">
                <a:moveTo>
                  <a:pt x="16222" y="13643"/>
                </a:moveTo>
                <a:cubicBezTo>
                  <a:pt x="16174" y="13770"/>
                  <a:pt x="16011" y="13915"/>
                  <a:pt x="16098" y="14064"/>
                </a:cubicBezTo>
                <a:cubicBezTo>
                  <a:pt x="16197" y="14097"/>
                  <a:pt x="16247" y="14097"/>
                  <a:pt x="16321" y="14039"/>
                </a:cubicBezTo>
              </a:path>
              <a:path w="745" h="447">
                <a:moveTo>
                  <a:pt x="16421" y="13717"/>
                </a:moveTo>
                <a:cubicBezTo>
                  <a:pt x="16304" y="13764"/>
                  <a:pt x="16328" y="13877"/>
                  <a:pt x="16321" y="13990"/>
                </a:cubicBezTo>
                <a:cubicBezTo>
                  <a:pt x="16444" y="13975"/>
                  <a:pt x="16666" y="13905"/>
                  <a:pt x="16495" y="13742"/>
                </a:cubicBezTo>
                <a:cubicBezTo>
                  <a:pt x="16470" y="13734"/>
                  <a:pt x="16446" y="13725"/>
                  <a:pt x="16421" y="13717"/>
                </a:cubicBezTo>
              </a:path>
              <a:path w="745" h="447">
                <a:moveTo>
                  <a:pt x="15801" y="13841"/>
                </a:moveTo>
                <a:cubicBezTo>
                  <a:pt x="15822" y="13819"/>
                  <a:pt x="15864" y="13890"/>
                  <a:pt x="15900" y="13816"/>
                </a:cubicBezTo>
                <a:cubicBezTo>
                  <a:pt x="15925" y="13765"/>
                  <a:pt x="15812" y="13782"/>
                  <a:pt x="15801" y="1381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80120" y="4894200"/>
            <a:ext cx="61920" cy="115920"/>
          </a:xfrm>
          <a:custGeom>
            <a:avLst/>
            <a:gdLst/>
            <a:ahLst/>
            <a:rect l="l" t="t" r="r" b="b"/>
            <a:pathLst>
              <a:path w="174" h="323">
                <a:moveTo>
                  <a:pt x="17165" y="13643"/>
                </a:moveTo>
                <a:cubicBezTo>
                  <a:pt x="17208" y="13621"/>
                  <a:pt x="17220" y="13617"/>
                  <a:pt x="17239" y="13593"/>
                </a:cubicBezTo>
                <a:cubicBezTo>
                  <a:pt x="17337" y="13722"/>
                  <a:pt x="17239" y="13744"/>
                  <a:pt x="17165" y="13866"/>
                </a:cubicBezTo>
                <a:cubicBezTo>
                  <a:pt x="17165" y="13891"/>
                  <a:pt x="17165" y="13899"/>
                  <a:pt x="17190" y="13891"/>
                </a:cubicBezTo>
                <a:cubicBezTo>
                  <a:pt x="17252" y="13922"/>
                  <a:pt x="17271" y="13913"/>
                  <a:pt x="17338" y="13891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48240" y="4822920"/>
            <a:ext cx="108000" cy="1332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7686" y="13519"/>
                </a:moveTo>
                <a:cubicBezTo>
                  <a:pt x="17677" y="13565"/>
                  <a:pt x="17672" y="13575"/>
                  <a:pt x="17636" y="13593"/>
                </a:cubicBezTo>
                <a:cubicBezTo>
                  <a:pt x="17694" y="13619"/>
                  <a:pt x="17752" y="13642"/>
                  <a:pt x="17810" y="13667"/>
                </a:cubicBezTo>
                <a:cubicBezTo>
                  <a:pt x="17795" y="13741"/>
                  <a:pt x="17784" y="13761"/>
                  <a:pt x="17711" y="13767"/>
                </a:cubicBezTo>
                <a:cubicBezTo>
                  <a:pt x="17669" y="13767"/>
                  <a:pt x="17661" y="13750"/>
                  <a:pt x="17686" y="13692"/>
                </a:cubicBezTo>
              </a:path>
              <a:path w="299" h="373">
                <a:moveTo>
                  <a:pt x="17735" y="13469"/>
                </a:moveTo>
                <a:cubicBezTo>
                  <a:pt x="17796" y="13449"/>
                  <a:pt x="17910" y="13429"/>
                  <a:pt x="17934" y="13395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59720" y="4653000"/>
            <a:ext cx="44280" cy="349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8827" y="12973"/>
                </a:moveTo>
                <a:cubicBezTo>
                  <a:pt x="18809" y="12920"/>
                  <a:pt x="18810" y="12953"/>
                  <a:pt x="18802" y="12998"/>
                </a:cubicBezTo>
                <a:cubicBezTo>
                  <a:pt x="18854" y="12998"/>
                  <a:pt x="18852" y="13000"/>
                  <a:pt x="18852" y="12948"/>
                </a:cubicBezTo>
                <a:cubicBezTo>
                  <a:pt x="18852" y="12881"/>
                  <a:pt x="18731" y="12990"/>
                  <a:pt x="18802" y="12998"/>
                </a:cubicBezTo>
                <a:cubicBezTo>
                  <a:pt x="18868" y="12998"/>
                  <a:pt x="18893" y="13006"/>
                  <a:pt x="18876" y="12948"/>
                </a:cubicBezTo>
                <a:cubicBezTo>
                  <a:pt x="18824" y="12956"/>
                  <a:pt x="18769" y="12973"/>
                  <a:pt x="18852" y="12973"/>
                </a:cubicBezTo>
              </a:path>
              <a:path w="125" h="100">
                <a:moveTo>
                  <a:pt x="18901" y="12998"/>
                </a:moveTo>
                <a:cubicBezTo>
                  <a:pt x="18878" y="12990"/>
                  <a:pt x="18855" y="12943"/>
                  <a:pt x="18827" y="12998"/>
                </a:cubicBezTo>
                <a:cubicBezTo>
                  <a:pt x="18788" y="13075"/>
                  <a:pt x="18964" y="12983"/>
                  <a:pt x="18901" y="12948"/>
                </a:cubicBezTo>
                <a:cubicBezTo>
                  <a:pt x="18852" y="12948"/>
                  <a:pt x="18835" y="12948"/>
                  <a:pt x="18802" y="12948"/>
                </a:cubicBezTo>
                <a:cubicBezTo>
                  <a:pt x="18845" y="13034"/>
                  <a:pt x="18894" y="12953"/>
                  <a:pt x="18852" y="12948"/>
                </a:cubicBezTo>
                <a:cubicBezTo>
                  <a:pt x="18794" y="12948"/>
                  <a:pt x="18769" y="12931"/>
                  <a:pt x="18777" y="1297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6920" y="465300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9298" y="12998"/>
                </a:moveTo>
                <a:cubicBezTo>
                  <a:pt x="19338" y="12966"/>
                  <a:pt x="19376" y="12946"/>
                  <a:pt x="19422" y="12923"/>
                </a:cubicBezTo>
                <a:cubicBezTo>
                  <a:pt x="19422" y="13014"/>
                  <a:pt x="19398" y="13025"/>
                  <a:pt x="19323" y="13072"/>
                </a:cubicBezTo>
                <a:cubicBezTo>
                  <a:pt x="19372" y="13072"/>
                  <a:pt x="19433" y="13058"/>
                  <a:pt x="19472" y="13097"/>
                </a:cubicBezTo>
                <a:cubicBezTo>
                  <a:pt x="19564" y="13189"/>
                  <a:pt x="19519" y="13293"/>
                  <a:pt x="19397" y="13320"/>
                </a:cubicBezTo>
                <a:cubicBezTo>
                  <a:pt x="19323" y="13320"/>
                  <a:pt x="19290" y="13345"/>
                  <a:pt x="19298" y="13295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34120" y="4626000"/>
            <a:ext cx="460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19819" y="12849"/>
                </a:moveTo>
                <a:cubicBezTo>
                  <a:pt x="19819" y="12874"/>
                  <a:pt x="19819" y="12882"/>
                  <a:pt x="19819" y="12898"/>
                </a:cubicBezTo>
                <a:cubicBezTo>
                  <a:pt x="19896" y="12917"/>
                  <a:pt x="19938" y="12937"/>
                  <a:pt x="19943" y="13022"/>
                </a:cubicBezTo>
                <a:cubicBezTo>
                  <a:pt x="19947" y="13081"/>
                  <a:pt x="19835" y="13160"/>
                  <a:pt x="19819" y="13097"/>
                </a:cubicBezTo>
                <a:cubicBezTo>
                  <a:pt x="19819" y="13080"/>
                  <a:pt x="19819" y="13064"/>
                  <a:pt x="19819" y="1304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6320" y="458136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20712" y="12725"/>
                </a:moveTo>
                <a:cubicBezTo>
                  <a:pt x="20712" y="12832"/>
                  <a:pt x="20712" y="12940"/>
                  <a:pt x="20712" y="1304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9240" y="4429080"/>
            <a:ext cx="1796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21109" y="12650"/>
                </a:moveTo>
                <a:cubicBezTo>
                  <a:pt x="21125" y="12712"/>
                  <a:pt x="21173" y="12753"/>
                  <a:pt x="21183" y="12824"/>
                </a:cubicBezTo>
                <a:cubicBezTo>
                  <a:pt x="21189" y="12865"/>
                  <a:pt x="21189" y="12864"/>
                  <a:pt x="21158" y="12874"/>
                </a:cubicBezTo>
              </a:path>
              <a:path w="497" h="844">
                <a:moveTo>
                  <a:pt x="21258" y="12303"/>
                </a:moveTo>
                <a:cubicBezTo>
                  <a:pt x="21475" y="12400"/>
                  <a:pt x="21601" y="12513"/>
                  <a:pt x="21605" y="12774"/>
                </a:cubicBezTo>
                <a:cubicBezTo>
                  <a:pt x="21607" y="12917"/>
                  <a:pt x="21555" y="13054"/>
                  <a:pt x="21431" y="13122"/>
                </a:cubicBezTo>
                <a:cubicBezTo>
                  <a:pt x="21391" y="13142"/>
                  <a:pt x="21384" y="13150"/>
                  <a:pt x="21357" y="1314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4040" y="2428920"/>
            <a:ext cx="2098800" cy="63360"/>
          </a:xfrm>
          <a:custGeom>
            <a:avLst/>
            <a:gdLst/>
            <a:ahLst/>
            <a:rect l="l" t="t" r="r" b="b"/>
            <a:pathLst>
              <a:path w="5830" h="175">
                <a:moveTo>
                  <a:pt x="1538" y="6772"/>
                </a:moveTo>
                <a:cubicBezTo>
                  <a:pt x="1685" y="6749"/>
                  <a:pt x="1785" y="6748"/>
                  <a:pt x="1935" y="6772"/>
                </a:cubicBezTo>
                <a:cubicBezTo>
                  <a:pt x="2218" y="6817"/>
                  <a:pt x="2494" y="6847"/>
                  <a:pt x="2778" y="6871"/>
                </a:cubicBezTo>
                <a:cubicBezTo>
                  <a:pt x="3069" y="6895"/>
                  <a:pt x="3354" y="6896"/>
                  <a:pt x="3646" y="6896"/>
                </a:cubicBezTo>
                <a:cubicBezTo>
                  <a:pt x="3847" y="6896"/>
                  <a:pt x="4043" y="6856"/>
                  <a:pt x="4242" y="6846"/>
                </a:cubicBezTo>
                <a:cubicBezTo>
                  <a:pt x="4474" y="6834"/>
                  <a:pt x="4703" y="6821"/>
                  <a:pt x="4936" y="6821"/>
                </a:cubicBezTo>
                <a:cubicBezTo>
                  <a:pt x="5175" y="6821"/>
                  <a:pt x="5418" y="6818"/>
                  <a:pt x="5655" y="6796"/>
                </a:cubicBezTo>
                <a:cubicBezTo>
                  <a:pt x="5839" y="6779"/>
                  <a:pt x="5995" y="6782"/>
                  <a:pt x="6176" y="6796"/>
                </a:cubicBezTo>
                <a:cubicBezTo>
                  <a:pt x="6356" y="6810"/>
                  <a:pt x="6543" y="6812"/>
                  <a:pt x="6722" y="6821"/>
                </a:cubicBezTo>
                <a:cubicBezTo>
                  <a:pt x="6905" y="6830"/>
                  <a:pt x="7065" y="6871"/>
                  <a:pt x="7243" y="6896"/>
                </a:cubicBezTo>
                <a:cubicBezTo>
                  <a:pt x="7292" y="6903"/>
                  <a:pt x="7318" y="6927"/>
                  <a:pt x="7367" y="6921"/>
                </a:cubicBezTo>
                <a:cubicBezTo>
                  <a:pt x="7359" y="6913"/>
                  <a:pt x="7350" y="6904"/>
                  <a:pt x="7342" y="6896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960" y="3419640"/>
            <a:ext cx="2278080" cy="144360"/>
          </a:xfrm>
          <a:custGeom>
            <a:avLst/>
            <a:gdLst/>
            <a:ahLst/>
            <a:rect l="l" t="t" r="r" b="b"/>
            <a:pathLst>
              <a:path w="6326" h="398">
                <a:moveTo>
                  <a:pt x="1488" y="9897"/>
                </a:moveTo>
                <a:cubicBezTo>
                  <a:pt x="1569" y="9863"/>
                  <a:pt x="1512" y="9851"/>
                  <a:pt x="1637" y="9823"/>
                </a:cubicBezTo>
                <a:cubicBezTo>
                  <a:pt x="1774" y="9792"/>
                  <a:pt x="1918" y="9788"/>
                  <a:pt x="2059" y="9773"/>
                </a:cubicBezTo>
                <a:cubicBezTo>
                  <a:pt x="2276" y="9750"/>
                  <a:pt x="2485" y="9748"/>
                  <a:pt x="2704" y="9748"/>
                </a:cubicBezTo>
                <a:cubicBezTo>
                  <a:pt x="2919" y="9748"/>
                  <a:pt x="3136" y="9744"/>
                  <a:pt x="3349" y="9723"/>
                </a:cubicBezTo>
                <a:cubicBezTo>
                  <a:pt x="3552" y="9703"/>
                  <a:pt x="3739" y="9636"/>
                  <a:pt x="3944" y="9624"/>
                </a:cubicBezTo>
                <a:cubicBezTo>
                  <a:pt x="4168" y="9611"/>
                  <a:pt x="4388" y="9599"/>
                  <a:pt x="4614" y="9599"/>
                </a:cubicBezTo>
                <a:cubicBezTo>
                  <a:pt x="4904" y="9599"/>
                  <a:pt x="5191" y="9575"/>
                  <a:pt x="5482" y="9575"/>
                </a:cubicBezTo>
                <a:cubicBezTo>
                  <a:pt x="5813" y="9575"/>
                  <a:pt x="6142" y="9550"/>
                  <a:pt x="6474" y="9550"/>
                </a:cubicBezTo>
                <a:cubicBezTo>
                  <a:pt x="6840" y="9550"/>
                  <a:pt x="7202" y="9547"/>
                  <a:pt x="7565" y="9525"/>
                </a:cubicBezTo>
                <a:cubicBezTo>
                  <a:pt x="7653" y="9520"/>
                  <a:pt x="7728" y="9513"/>
                  <a:pt x="7813" y="9500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3929040"/>
            <a:ext cx="2098440" cy="88920"/>
          </a:xfrm>
          <a:custGeom>
            <a:avLst/>
            <a:gdLst/>
            <a:ahLst/>
            <a:rect l="l" t="t" r="r" b="b"/>
            <a:pathLst>
              <a:path w="5830" h="249">
                <a:moveTo>
                  <a:pt x="1588" y="11162"/>
                </a:moveTo>
                <a:cubicBezTo>
                  <a:pt x="1655" y="11143"/>
                  <a:pt x="1832" y="11103"/>
                  <a:pt x="1935" y="11088"/>
                </a:cubicBezTo>
                <a:cubicBezTo>
                  <a:pt x="2177" y="11054"/>
                  <a:pt x="2435" y="11027"/>
                  <a:pt x="2679" y="11013"/>
                </a:cubicBezTo>
                <a:cubicBezTo>
                  <a:pt x="2933" y="10998"/>
                  <a:pt x="3221" y="10980"/>
                  <a:pt x="3473" y="10988"/>
                </a:cubicBezTo>
                <a:cubicBezTo>
                  <a:pt x="3687" y="10995"/>
                  <a:pt x="3900" y="10988"/>
                  <a:pt x="4118" y="10988"/>
                </a:cubicBezTo>
                <a:cubicBezTo>
                  <a:pt x="4368" y="10988"/>
                  <a:pt x="4613" y="10968"/>
                  <a:pt x="4862" y="10964"/>
                </a:cubicBezTo>
                <a:cubicBezTo>
                  <a:pt x="5120" y="10960"/>
                  <a:pt x="5374" y="10942"/>
                  <a:pt x="5631" y="10939"/>
                </a:cubicBezTo>
                <a:cubicBezTo>
                  <a:pt x="6128" y="10932"/>
                  <a:pt x="6623" y="10935"/>
                  <a:pt x="7119" y="10914"/>
                </a:cubicBezTo>
                <a:cubicBezTo>
                  <a:pt x="7217" y="10910"/>
                  <a:pt x="7318" y="10914"/>
                  <a:pt x="7417" y="10914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320" y="4429080"/>
            <a:ext cx="2152800" cy="187200"/>
          </a:xfrm>
          <a:custGeom>
            <a:avLst/>
            <a:gdLst/>
            <a:ahLst/>
            <a:rect l="l" t="t" r="r" b="b"/>
            <a:pathLst>
              <a:path w="5979" h="522">
                <a:moveTo>
                  <a:pt x="1662" y="12824"/>
                </a:moveTo>
                <a:cubicBezTo>
                  <a:pt x="1703" y="12807"/>
                  <a:pt x="1807" y="12760"/>
                  <a:pt x="1885" y="12750"/>
                </a:cubicBezTo>
                <a:cubicBezTo>
                  <a:pt x="2264" y="12701"/>
                  <a:pt x="2646" y="12704"/>
                  <a:pt x="3026" y="12675"/>
                </a:cubicBezTo>
                <a:cubicBezTo>
                  <a:pt x="3375" y="12648"/>
                  <a:pt x="3720" y="12668"/>
                  <a:pt x="4068" y="12650"/>
                </a:cubicBezTo>
                <a:cubicBezTo>
                  <a:pt x="4400" y="12633"/>
                  <a:pt x="4729" y="12615"/>
                  <a:pt x="5060" y="12576"/>
                </a:cubicBezTo>
                <a:cubicBezTo>
                  <a:pt x="5311" y="12546"/>
                  <a:pt x="5553" y="12501"/>
                  <a:pt x="5804" y="12477"/>
                </a:cubicBezTo>
                <a:cubicBezTo>
                  <a:pt x="6080" y="12451"/>
                  <a:pt x="6346" y="12400"/>
                  <a:pt x="6623" y="12378"/>
                </a:cubicBezTo>
                <a:cubicBezTo>
                  <a:pt x="6866" y="12358"/>
                  <a:pt x="7097" y="12328"/>
                  <a:pt x="7342" y="12328"/>
                </a:cubicBezTo>
                <a:cubicBezTo>
                  <a:pt x="7467" y="12328"/>
                  <a:pt x="7527" y="12319"/>
                  <a:pt x="7640" y="1230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040" y="4894200"/>
            <a:ext cx="1857240" cy="123840"/>
          </a:xfrm>
          <a:custGeom>
            <a:avLst/>
            <a:gdLst/>
            <a:ahLst/>
            <a:rect l="l" t="t" r="r" b="b"/>
            <a:pathLst>
              <a:path w="5160" h="348">
                <a:moveTo>
                  <a:pt x="1538" y="13940"/>
                </a:moveTo>
                <a:cubicBezTo>
                  <a:pt x="1640" y="13893"/>
                  <a:pt x="1710" y="13880"/>
                  <a:pt x="1836" y="13891"/>
                </a:cubicBezTo>
                <a:cubicBezTo>
                  <a:pt x="2097" y="13914"/>
                  <a:pt x="2344" y="13922"/>
                  <a:pt x="2604" y="13915"/>
                </a:cubicBezTo>
                <a:cubicBezTo>
                  <a:pt x="2895" y="13907"/>
                  <a:pt x="3183" y="13879"/>
                  <a:pt x="3473" y="13866"/>
                </a:cubicBezTo>
                <a:cubicBezTo>
                  <a:pt x="3707" y="13856"/>
                  <a:pt x="3934" y="13807"/>
                  <a:pt x="4167" y="13791"/>
                </a:cubicBezTo>
                <a:cubicBezTo>
                  <a:pt x="4414" y="13774"/>
                  <a:pt x="4665" y="13765"/>
                  <a:pt x="4911" y="13742"/>
                </a:cubicBezTo>
                <a:cubicBezTo>
                  <a:pt x="5103" y="13724"/>
                  <a:pt x="5289" y="13696"/>
                  <a:pt x="5482" y="13692"/>
                </a:cubicBezTo>
                <a:cubicBezTo>
                  <a:pt x="5690" y="13688"/>
                  <a:pt x="5892" y="13667"/>
                  <a:pt x="6102" y="13667"/>
                </a:cubicBezTo>
                <a:cubicBezTo>
                  <a:pt x="6276" y="13667"/>
                  <a:pt x="6532" y="13674"/>
                  <a:pt x="6697" y="13618"/>
                </a:cubicBezTo>
                <a:cubicBezTo>
                  <a:pt x="6697" y="13610"/>
                  <a:pt x="6697" y="13601"/>
                  <a:pt x="6697" y="1359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33880" y="420516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1609" y="11733"/>
                </a:moveTo>
                <a:cubicBezTo>
                  <a:pt x="11584" y="11631"/>
                  <a:pt x="11540" y="11698"/>
                  <a:pt x="11509" y="11757"/>
                </a:cubicBezTo>
                <a:cubicBezTo>
                  <a:pt x="11488" y="11801"/>
                  <a:pt x="11475" y="11812"/>
                  <a:pt x="11509" y="11832"/>
                </a:cubicBezTo>
                <a:cubicBezTo>
                  <a:pt x="11601" y="11781"/>
                  <a:pt x="11584" y="11811"/>
                  <a:pt x="11584" y="11708"/>
                </a:cubicBezTo>
                <a:cubicBezTo>
                  <a:pt x="11542" y="11715"/>
                  <a:pt x="11445" y="11768"/>
                  <a:pt x="11509" y="11832"/>
                </a:cubicBezTo>
                <a:cubicBezTo>
                  <a:pt x="11537" y="11832"/>
                  <a:pt x="11548" y="11830"/>
                  <a:pt x="11559" y="11807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8320" y="5357880"/>
            <a:ext cx="2751480" cy="142920"/>
          </a:xfrm>
          <a:custGeom>
            <a:avLst/>
            <a:gdLst/>
            <a:ahLst/>
            <a:rect l="l" t="t" r="r" b="b"/>
            <a:pathLst>
              <a:path w="7641" h="398">
                <a:moveTo>
                  <a:pt x="1662" y="15280"/>
                </a:moveTo>
                <a:cubicBezTo>
                  <a:pt x="1947" y="15280"/>
                  <a:pt x="2222" y="15234"/>
                  <a:pt x="2505" y="15205"/>
                </a:cubicBezTo>
                <a:cubicBezTo>
                  <a:pt x="2816" y="15174"/>
                  <a:pt x="3136" y="15146"/>
                  <a:pt x="3448" y="15131"/>
                </a:cubicBezTo>
                <a:cubicBezTo>
                  <a:pt x="3753" y="15116"/>
                  <a:pt x="4038" y="15075"/>
                  <a:pt x="4341" y="15032"/>
                </a:cubicBezTo>
                <a:cubicBezTo>
                  <a:pt x="4635" y="14990"/>
                  <a:pt x="4939" y="14932"/>
                  <a:pt x="5234" y="14908"/>
                </a:cubicBezTo>
                <a:cubicBezTo>
                  <a:pt x="5970" y="14849"/>
                  <a:pt x="6732" y="14908"/>
                  <a:pt x="7466" y="14908"/>
                </a:cubicBezTo>
                <a:cubicBezTo>
                  <a:pt x="8004" y="14908"/>
                  <a:pt x="8545" y="14918"/>
                  <a:pt x="9079" y="14883"/>
                </a:cubicBezTo>
                <a:cubicBezTo>
                  <a:pt x="9195" y="14883"/>
                  <a:pt x="9228" y="14883"/>
                  <a:pt x="9302" y="14883"/>
                </a:cubicBezTo>
              </a:path>
            </a:pathLst>
          </a:custGeom>
          <a:noFill/>
          <a:ln cap="rnd" w="3492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12-21T16:33:06Z</dcterms:modified>
  <cp:revision>11</cp:revision>
  <dc:subject/>
  <dc:title>The Coordinate Plane</dc:title>
</cp:coreProperties>
</file>